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83400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73A26-98CF-480A-B1D5-B4D86551B8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30FA9-1599-4E44-AC37-5EF45BEBC6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A5CD0-E44C-45DD-B59A-7E943464B4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AB368-6513-4681-B692-572AA1DFC1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54A19-D51D-4090-A9FF-613E4ABC3D5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8E448-1D78-4AA8-8E36-239ADAFD372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47CC5-22A4-4DC5-A01E-2C15C17FC30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FB987-7710-40AC-89DA-B3690B371B3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3B467-3F9C-478D-9D4F-49A003BE0A7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05211-BCEE-4D81-9928-00F5A20AD18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A05CB-064B-4E8D-8192-8F8DCD232DF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5D01A-B93C-4F13-A27E-23218C5560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A88E7-A5CE-4034-8B43-9F34E005303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5E59B-2AD1-45C5-BFBD-721C5D12EE1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1B935-9BA5-49B0-BE73-00D6CF6FB32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18848-A347-4C8D-AE34-D9750C7C768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8BD06-8DFF-4F70-AAE2-0C996FDF12A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A378-BD9F-463C-B5F2-6D9CD09C6CB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7F58-E666-4953-AB08-8A9B54CC9B5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B774-E0DE-4444-B551-C981F49714B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9407-D723-4697-B510-1EA2F3DA965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EA0A-CB5F-4B17-B258-F592054D69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F9743-4C2E-4274-AF79-D2F38C56701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659F-247B-4E45-BDFF-9F89E73D611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0032-717D-4B31-859F-6E10AE89396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19C7-364A-464A-B075-68555C4C8AF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5D71-5AE0-4070-88C5-27B9DF425BB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4F8D-7138-4928-A2D4-BE44387B02E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CD00-FDE0-4357-8133-5299EA72A88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1939-8662-4455-91C8-D8F0FA590D4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AE1F3C-0BF3-4FB4-B085-42D7FF0E3D1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1E4078-B348-4541-A05E-66D3B959F88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3C27A7-EC41-480A-908E-0AF63B9EEA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1FCD2-0B20-4824-8886-1892DC6F0DF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86B4AD-C860-459D-BFC1-DF47A73FC67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47827D-02B2-4B68-9D35-2F9F20FBDA2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51A61F-0EBB-445C-BEB1-7F17B3A4D30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F10E3F-E55F-46BD-9257-6E01954FC1B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4E2364-8C85-4AF6-A55B-1AD19538EE7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0F42B2-6250-4A35-BD7E-550A16D7F02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B2A99B-DD96-4DF5-991E-B16AA6EFEEF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A35594-CF24-458F-B176-4F3C0E8F086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9D7FC4-310F-406A-A067-E788C587807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CF76B9-6557-417A-A6F0-482DEF5D67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3F6C2-7E94-453D-8DB9-1E17EEDA4CD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87CFB2-D0FD-4DF1-A95D-929CF8CDE5A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973EEB-5E75-4E7A-87E9-FCCD1208FC1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B71416-BBA7-46C9-986F-FA8D2309555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70DBDE-BFBF-427A-8A89-B3FE04EEF0A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A88A38-72DC-4459-AC04-BFEF5A5E8F5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7895DE-4E66-4DF1-9D41-A494D83CF8D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CCDE29-C693-4701-AC9B-6E560639482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E89F8A-963F-4EA3-9FAE-C0593DBE2C8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17EA66-E31C-46A9-BACC-DAD001A9E53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619A1F-1FE6-460A-8849-E83E247B78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D4493-54BF-46D6-BD8B-274FD08B386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E9DC21-EFB3-43EB-9682-89C3668B3E5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6A71C-4423-43E4-9190-048145F2655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A26E1-9995-4BE1-ACD7-C71DB8ACCDA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0B7D4-75CA-4257-A194-57D3CB58636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D3069-0C7D-48B6-9D72-C390A727F43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4C286-3FF9-43E5-9D66-5FF6B51D9C4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4FE78-3EF1-4EDB-B810-C480007B65E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2A5C6-5FC1-4854-8D8E-245AA22929A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42FF2-68F7-418A-AC52-1DD198291FB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D4D33-4F56-4040-9A8E-C3F9621110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E8D1D-7C1E-49D6-930F-020EA6E33C9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657EF-8508-4762-8CA9-A248D6069D4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8AC34-1F2F-46F7-9327-44E98A0917E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E2F60-A09B-4505-99B7-6733FC12148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0E9DDF-E8AE-4DB4-AC72-146906F424B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10B7F0-55A9-4862-9C83-3ADD6E057B6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CCBA78-2EF1-4212-927B-BCDC8588FAA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666F9A-55E9-49AB-BE64-1BCC490B3D9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694385-7B80-4653-B521-A558969DE85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215415-D843-4CCF-B1E2-189C4922B28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402840-0CF7-4072-894A-65044F77A4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E6856-CFD8-49E0-91C0-B653557A1D2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C39835-E851-4212-9250-90C24ADC894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9DB96E-1B2C-456A-A722-5E374C4CFCA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F6E803-2B40-4C05-AA57-846A2892625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C0D6F1-8600-418F-9CED-890A5A2F7A7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10526B-5F35-4F35-91B6-29ED10DD65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7E246-DC9A-4C63-8FA1-B41A37DC55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7957850-6774-4F15-8277-5AA847827ECB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8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50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4"/>
          <a:stretch/>
        </p:blipFill>
        <p:spPr>
          <a:xfrm>
            <a:off x="0" y="4280040"/>
            <a:ext cx="9144000" cy="2568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"/>
          <p:cNvPicPr/>
          <p:nvPr/>
        </p:nvPicPr>
        <p:blipFill>
          <a:blip r:embed="rId5"/>
          <a:srcRect l="0" t="0" r="20736" b="-9021"/>
          <a:stretch/>
        </p:blipFill>
        <p:spPr>
          <a:xfrm>
            <a:off x="108000" y="6308640"/>
            <a:ext cx="887400" cy="459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2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548C244-1784-49D1-96B1-30EF077591DB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9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3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9BEEC62-7E97-40B4-B0C5-C626141BEF08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4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4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7BD4DEB-EC7C-494B-837B-D63344350851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8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Num" idx="5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A88D667-3EF2-4973-B0C8-08E76B1A0798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3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6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D2DBDEC-3995-4A90-89D3-6DDF00498A25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7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7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B422A44-D106-4192-88B7-050C5D84599A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CA" sz="4000" spc="-1" strike="noStrike">
                <a:solidFill>
                  <a:srgbClr val="f2f2f2"/>
                </a:solidFill>
                <a:latin typeface="Calibri"/>
              </a:rPr>
              <a:t>DAL-XSD: XML schema proposal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68360" y="907920"/>
            <a:ext cx="812808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ate: 2013-12-11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MS#: 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Author: Simon Merrall, Andreas Sayegh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Company: Deutsche Telekom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working group: SHTF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document: GWD042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Slide Number Placeholder 6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6BBF72-532A-499D-9B37-95070528650F}" type="slidenum"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607D22-A47B-4619-B87D-366412A8168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9055A1-562B-4C33-929D-E49BECB9DC5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" name="Group 9"/>
          <p:cNvGrpSpPr/>
          <p:nvPr/>
        </p:nvGrpSpPr>
        <p:grpSpPr>
          <a:xfrm>
            <a:off x="457200" y="1738440"/>
            <a:ext cx="5029200" cy="3757320"/>
            <a:chOff x="457200" y="1738440"/>
            <a:chExt cx="5029200" cy="3757320"/>
          </a:xfrm>
        </p:grpSpPr>
        <p:pic>
          <p:nvPicPr>
            <p:cNvPr id="377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5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Reusable elements are declared in the Modules s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5579640" y="1981080"/>
            <a:ext cx="312444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Name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unique in th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ction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Event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nother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 referenced by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id (must b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ncluded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nam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Folded Corner 13"/>
          <p:cNvSpPr/>
          <p:nvPr/>
        </p:nvSpPr>
        <p:spPr>
          <a:xfrm rot="1017600">
            <a:off x="3529800" y="5374080"/>
            <a:ext cx="1981440" cy="94824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4380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Do not use globally unique identifiers for module classes – Domain should act as a scop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Module Clas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8D8D2D-0722-47BA-BB0F-726FFC4D0E0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871D55-5350-42F8-BAC1-742DDE947D9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386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Class name="BooleanState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…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get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etTarget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rg name="value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Desired value of the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/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Arg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Clas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BooleanState for modelling underlying binary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5579640" y="1980720"/>
            <a:ext cx="30481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operation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reading and 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etting the 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Devic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30CB8A-466E-484F-A7D9-D3830205578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0EE3EA-6F8E-4394-A0E0-828DF642A11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Group 9"/>
          <p:cNvGrpSpPr/>
          <p:nvPr/>
        </p:nvGrpSpPr>
        <p:grpSpPr>
          <a:xfrm>
            <a:off x="457200" y="1738440"/>
            <a:ext cx="5029200" cy="4557600"/>
            <a:chOff x="457200" y="1738440"/>
            <a:chExt cx="5029200" cy="4557600"/>
          </a:xfrm>
        </p:grpSpPr>
        <p:pic>
          <p:nvPicPr>
            <p:cNvPr id="394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480"/>
              <a:ext cx="5029200" cy="43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6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Now have all the elements to define a de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5579640" y="1980720"/>
            <a:ext cx="3124440" cy="34894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ome meta-info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Vendor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l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etc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Contains Modul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ot ModuleClass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evices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CC587E-061B-4716-A3F8-9B2F184F7917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5F17C1-9A8F-456E-BA34-7158B0904D9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Group 9"/>
          <p:cNvGrpSpPr/>
          <p:nvPr/>
        </p:nvGrpSpPr>
        <p:grpSpPr>
          <a:xfrm>
            <a:off x="457200" y="1738440"/>
            <a:ext cx="5029200" cy="2140560"/>
            <a:chOff x="457200" y="1738440"/>
            <a:chExt cx="5029200" cy="2140560"/>
          </a:xfrm>
        </p:grpSpPr>
        <p:sp>
          <p:nvSpPr>
            <p:cNvPr id="402" name="TextBox 5"/>
            <p:cNvSpPr/>
            <p:nvPr/>
          </p:nvSpPr>
          <p:spPr>
            <a:xfrm>
              <a:off x="457200" y="2003040"/>
              <a:ext cx="5029200" cy="1875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maxOccurs="unbounded" ref="Module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" type="ModuleDe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Modules essentially the same a ModuleCla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5579640" y="1980720"/>
            <a:ext cx="3124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not be extend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Content Placeholder 2"/>
          <p:cNvSpPr/>
          <p:nvPr/>
        </p:nvSpPr>
        <p:spPr>
          <a:xfrm>
            <a:off x="380880" y="3962520"/>
            <a:ext cx="8382240" cy="21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The ModuleClass is the unit of re-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Hence the basis of abstr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Device Modules can extend standard ModuleCla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Classes can be imported from other dom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s cann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A2C80E-809C-4D5A-8436-A48ADB5C94F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9D9234-FC17-4BEC-ACA6-2787A11DB63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0" name="Group 9"/>
          <p:cNvGrpSpPr/>
          <p:nvPr/>
        </p:nvGrpSpPr>
        <p:grpSpPr>
          <a:xfrm>
            <a:off x="457200" y="1738440"/>
            <a:ext cx="5029200" cy="2932560"/>
            <a:chOff x="457200" y="1738440"/>
            <a:chExt cx="5029200" cy="2932560"/>
          </a:xfrm>
        </p:grpSpPr>
        <p:sp>
          <p:nvSpPr>
            <p:cNvPr id="411" name="TextBox 5"/>
            <p:cNvSpPr/>
            <p:nvPr/>
          </p:nvSpPr>
          <p:spPr>
            <a:xfrm>
              <a:off x="457200" y="2003040"/>
              <a:ext cx="5029200" cy="266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roprietary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f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tate" type="string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extends domain="hgi.dal.cor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class="BooleanState"/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Power 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–</a:t>
            </a: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 candidate for Boolean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Vendor can define „inline“ proprietary modul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impler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reduce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 effor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ut little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15" name="Content Placeholder 2" descr=""/>
          <p:cNvPicPr/>
          <p:nvPr/>
        </p:nvPicPr>
        <p:blipFill>
          <a:blip r:embed="rId2"/>
          <a:stretch/>
        </p:blipFill>
        <p:spPr>
          <a:xfrm>
            <a:off x="378000" y="4748040"/>
            <a:ext cx="8388000" cy="1231920"/>
          </a:xfrm>
          <a:prstGeom prst="rect">
            <a:avLst/>
          </a:prstGeom>
          <a:ln w="0">
            <a:noFill/>
          </a:ln>
        </p:spPr>
      </p:pic>
      <p:sp>
        <p:nvSpPr>
          <p:cNvPr id="416" name="Folded Corner 11"/>
          <p:cNvSpPr/>
          <p:nvPr/>
        </p:nvSpPr>
        <p:spPr>
          <a:xfrm rot="20923800">
            <a:off x="6603840" y="551952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Only need hgi-core domain to use power modu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AA02BF-A88A-4A7D-8484-9AD15495377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C62D25-5171-41CE-84EA-6334E8D7E52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0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421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="http://hgi.org/xml/dal/1.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xmlns:xi="http://www.w3.org/2001/XInclud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id="com.telekom"&gt; 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parse="xml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href="http://hgi.org/dal-core.xml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 id="switch.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Name&gt;PowerSwitch&lt;/Nam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Vendor&gt;Telekom Laboratories&lt;/Vendor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ee previous slide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omai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A device with a power switch defined by DTAG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5579640" y="1981080"/>
            <a:ext cx="3048120" cy="3183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tails of device discovery to be determined, but device can be used by applications understanding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ower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oolean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Licensing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6840" y="1196640"/>
            <a:ext cx="8381880" cy="31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is a contribution to GWD042, which is aimed to be published by HGI under royalty free license conditions (e. g. Apache License)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author(s) hereby confirm their awareness that this contribution may become a part of an HGI publication under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Warning: Any further work on this contribution will also become part of a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5620FE-59F9-4340-AC8D-BBC5A8D5105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A46639-EDC9-4616-81B9-72C9366AF50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Purpose &amp; Ac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6840" y="1196640"/>
            <a:ext cx="838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contribution proposes a draft for an XML schema that describes device type capabiliti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schema encourages modular approach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We‘d like the HGI adopts the schema as a starting point and starts to work on its finaliza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404931-D8D2-4493-BEED-FA465FEE9C0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2D78E3-AA0A-4568-BFF1-D147079A483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Some Guiding Princip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6840" y="1197000"/>
            <a:ext cx="838188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 description is in XML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ry to avoid becoming too complex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echanism for referencing other definitions requir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Rely on standard XML semantic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scription should be a valid XML documen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 not introduce additional semantic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(e.g. &lt;import-device id=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"…"/&gt;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Use of standard XML tools (parser, XSLT) should be possibl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Identify unit of re-use and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2DE5D2-FD3C-49C2-80E7-43E2B326F59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986C6B-D597-48DF-A61D-44821D39DDE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Folded Corner 6"/>
          <p:cNvSpPr/>
          <p:nvPr/>
        </p:nvSpPr>
        <p:spPr>
          <a:xfrm rot="20923800">
            <a:off x="6581880" y="540936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Not addressed: Standard dictionary for terms such as power, light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Namespace Declara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880" y="4191120"/>
            <a:ext cx="8382240" cy="12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 XM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Using some standard XML element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eeded for import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FB9C6F-1648-491F-A879-37539E8A2A0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9E97DF-C3FE-44DF-B98F-8A9C2628667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Group 9"/>
          <p:cNvGrpSpPr/>
          <p:nvPr/>
        </p:nvGrpSpPr>
        <p:grpSpPr>
          <a:xfrm>
            <a:off x="457200" y="1752480"/>
            <a:ext cx="8272440" cy="1546560"/>
            <a:chOff x="457200" y="1752480"/>
            <a:chExt cx="8272440" cy="1546560"/>
          </a:xfrm>
        </p:grpSpPr>
        <p:sp>
          <p:nvSpPr>
            <p:cNvPr id="338" name="TextBox 5"/>
            <p:cNvSpPr/>
            <p:nvPr/>
          </p:nvSpPr>
          <p:spPr>
            <a:xfrm>
              <a:off x="457200" y="2017080"/>
              <a:ext cx="8272440" cy="1281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chema targetNamespace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:xs="http://www.w3.org/2001/XMLSchema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lementFormDefault="qualified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import namespace="http://www.w3.org/XML/1998/namespace"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 schemaLocation="http://www.w3.org/2001/03/xml.xsd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Round Same Side Corner Rectangle 8"/>
            <p:cNvSpPr/>
            <p:nvPr/>
          </p:nvSpPr>
          <p:spPr>
            <a:xfrm>
              <a:off x="518760" y="175248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Import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0880" y="45716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chema provides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Imports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ag for importing one or more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Domain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ed Domain is part of document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not merely a referenc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54D9A6-2FDA-44CF-B629-0C7867535B87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9E8BC2-0E6A-4B96-B45A-B92B462A857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Group 9"/>
          <p:cNvGrpSpPr/>
          <p:nvPr/>
        </p:nvGrpSpPr>
        <p:grpSpPr>
          <a:xfrm>
            <a:off x="457200" y="1738440"/>
            <a:ext cx="8272440" cy="2734560"/>
            <a:chOff x="457200" y="1738440"/>
            <a:chExt cx="8272440" cy="2734560"/>
          </a:xfrm>
        </p:grpSpPr>
        <p:sp>
          <p:nvSpPr>
            <p:cNvPr id="345" name="TextBox 5"/>
            <p:cNvSpPr/>
            <p:nvPr/>
          </p:nvSpPr>
          <p:spPr>
            <a:xfrm>
              <a:off x="457200" y="2003040"/>
              <a:ext cx="8272440" cy="2469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group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ref="Imports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group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maxOccurs="unbounded" ref="Domai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Ideally the descriptions build on standard defin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4A8AF8-E519-471C-825F-E702D6F988B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B817F8-52BA-46B7-AB4A-A4788F40298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Group 9"/>
          <p:cNvGrpSpPr/>
          <p:nvPr/>
        </p:nvGrpSpPr>
        <p:grpSpPr>
          <a:xfrm>
            <a:off x="457200" y="1738440"/>
            <a:ext cx="5029200" cy="4357440"/>
            <a:chOff x="457200" y="1738440"/>
            <a:chExt cx="5029200" cy="4357440"/>
          </a:xfrm>
        </p:grpSpPr>
        <p:pic>
          <p:nvPicPr>
            <p:cNvPr id="352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41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Multiple device descriptions are collected in a </a:t>
            </a:r>
            <a:r>
              <a:rPr b="0" i="1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has a uniqu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d and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tainin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Content Placeholder 2"/>
          <p:cNvSpPr/>
          <p:nvPr/>
        </p:nvSpPr>
        <p:spPr>
          <a:xfrm>
            <a:off x="5580000" y="4952880"/>
            <a:ext cx="3048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xml:base tag needed for compatibility with xinclu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omain Declar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80880" y="3733560"/>
            <a:ext cx="838224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efault namespace is bound to the HGI-DA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omain defines a unique i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are realised using standard XML includ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amespace for XML Includes must also be declared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Domain documents can be included in the Imports section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rn standard XML tools are </a:t>
            </a:r>
            <a:r>
              <a:rPr b="0" i="1" lang="de-DE" sz="2000" spc="-1" strike="noStrike">
                <a:solidFill>
                  <a:srgbClr val="04617b"/>
                </a:solidFill>
                <a:latin typeface="Calibri"/>
              </a:rPr>
              <a:t>xinclude aware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FE0F2A-5E29-4892-B178-89FC612C3E0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8390AB-B176-439C-9885-798EFC621DD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Group 9"/>
          <p:cNvGrpSpPr/>
          <p:nvPr/>
        </p:nvGrpSpPr>
        <p:grpSpPr>
          <a:xfrm>
            <a:off x="457200" y="1738440"/>
            <a:ext cx="8272440" cy="1942560"/>
            <a:chOff x="457200" y="1738440"/>
            <a:chExt cx="8272440" cy="1942560"/>
          </a:xfrm>
        </p:grpSpPr>
        <p:sp>
          <p:nvSpPr>
            <p:cNvPr id="362" name="TextBox 5"/>
            <p:cNvSpPr/>
            <p:nvPr/>
          </p:nvSpPr>
          <p:spPr>
            <a:xfrm>
              <a:off x="457200" y="2003040"/>
              <a:ext cx="8272440" cy="167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:xi="http://www.w3.org/2001/XInclude"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d="com.telekom”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href=”http://hgi.org/dal-core.xml" parse="xml" 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..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Descriptions are XML Domain Doc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cument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8EC02B-75D7-42D7-8EFC-211603B845F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018E51-CFAF-45F9-868C-FA9A4C95492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8" name="Group 9"/>
          <p:cNvGrpSpPr/>
          <p:nvPr/>
        </p:nvGrpSpPr>
        <p:grpSpPr>
          <a:xfrm>
            <a:off x="457200" y="1738440"/>
            <a:ext cx="5029200" cy="3957480"/>
            <a:chOff x="457200" y="1738440"/>
            <a:chExt cx="5029200" cy="3957480"/>
          </a:xfrm>
        </p:grpSpPr>
        <p:pic>
          <p:nvPicPr>
            <p:cNvPr id="369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7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1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Small HTML-style tag-set for documenting the defi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579640" y="1981080"/>
            <a:ext cx="3048120" cy="3105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 paragraph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d imag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cText gro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mark-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emphasis etc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f there is only on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aragraph the ta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be omitt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1T09:54:16Z</dcterms:created>
  <dc:creator>cb, hwb</dc:creator>
  <dc:description/>
  <dc:language>en-US</dc:language>
  <cp:lastModifiedBy>ANDREAS SAYEGH</cp:lastModifiedBy>
  <cp:lastPrinted>2000-03-02T16:25:29Z</cp:lastPrinted>
  <dcterms:modified xsi:type="dcterms:W3CDTF">2013-12-11T10:59:24Z</dcterms:modified>
  <cp:revision>394</cp:revision>
  <dc:subject/>
  <dc:title>Board Strategy Meeting HGI - SWEX</dc:title>
</cp:coreProperties>
</file>