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83400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6314F-999D-44B3-8B00-A5D0971F1C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3B0DD-F470-4904-83BB-A639463B05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5D4B1-9CF4-4A16-8718-4C7885A9D1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BD7ED-F319-4E6D-929B-B18CC3740B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7D5E4E-65B4-430A-A455-997F33123AC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D03952-8C06-4674-86C5-E8FDAB4F079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47EE5A-8AA5-4D37-854B-98FDDBC79F3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EE6EBC-F913-4010-AB59-6F419918816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27AE0C-5319-40BB-AD75-64980F5BF39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85772A-61FD-473E-B0A0-53BD740D5FC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BA300D-6811-418B-A051-A22FE1E0CF9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1550A-E010-44E1-99CE-B84760BE60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21301D-084D-4D16-A8C4-AD663A91559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501ABE-AA7E-4547-89BB-15413BDB431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395CE-615E-4F38-8A0B-4F0C5E9EE1A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2C48BB-8109-4901-8252-F5C26E0FB6A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8F70D2-BAF0-4599-8978-C0AB59DC3B0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4117-FB0B-4F93-8C2F-66681C12D03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ED75-4226-40F7-B478-AE4A1D603A4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A43A-601E-4745-8772-15CA49F90F7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FC46-C02A-4F23-A926-063DDCF295C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3CC9-52AC-4C12-B245-7D4A7D2B458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4468B-1388-45DF-869F-D876D1B0922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B1AB-7F4E-4A2D-B682-97EE006E302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AAE3-58EE-4013-B8F2-7FBD8071926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EE17-305F-4374-A2C6-8721433DB44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B560-EA2F-447F-A541-3F0B24EB28E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FAC8-1DB0-4F00-AB63-18A48F55768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4C37-6EE4-4FE8-933B-7AF4A63DC3E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86A3-AF7C-4981-B53E-FF14A79B80D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8F1223-2667-483B-85FD-CCA0CCBB898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F6384A-B77A-45C7-A8D7-8E05D866BC3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57E577-8FCA-43FA-B91C-DC60E90485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5E28B-6639-463B-A990-62F439329EB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63814B-5618-4E15-A00D-402BC480DF1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825270-D8B8-4906-A3E4-99A4039E42E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0BB426-4357-4C6D-97B2-7AF2C9D8BE6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EBF055-089F-4A32-B89E-E6A5054BEB6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F87146-2574-4A3B-9396-7FAA7DBA40E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1E77AC-5969-4F5E-9137-BD1E74D5ECA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6B69AC-C493-464E-9D63-F8DCE48BB20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D43F87-7086-496B-B554-DAAE9C60B96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F82CB8-9D2E-448E-A0B1-2801CAC051EF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A41FE3-FD9D-482A-B75A-22481B8499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9F2CE-F691-44F8-8D6B-CD81D76CD012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798D76-F8B7-424C-9281-3B80EB1C7C59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DE98B3-DCE8-4C8B-A398-3839E9C1B20B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0D4B96-3CC5-437D-BDC4-A2BD2FDC6095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A8D0EE-38E4-4616-800B-B269CBE58FBF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5B4550-0959-404D-82E3-4CF97BAEF6F2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1EBA97-8804-4AC9-8A49-274FE27264A8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4D1A2F-E703-4FF7-9A07-3B0C1450561F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F17AE5-A500-44FF-99ED-7A7BF8E9ED42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BA7F32-43CF-4A07-801A-3FECDF69DAAE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1377D1-B610-4088-A98F-D83FE0C709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02D4C-655D-480E-9240-1C216CA17BA6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BB7134-6FA1-4D75-815F-99B190F30230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5E036-1F58-45AA-AEAE-2FF8E65B402B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C69A4-2BD5-4BF9-9CB7-7C8533BE209F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C8EC3-C52D-4384-A058-2B527CDEF7B7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50F5F-03BE-40FA-A684-B47CB1A09E0B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CC969-4779-4A95-805B-61951CD58FC8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53D80-841D-4C7F-B06E-3980683DB069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7C0F4-1739-413A-9AF4-FEF29313CEE0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64AFD-070B-41FF-8324-9F4B642F483D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684F5-0A9C-426B-8226-BF8BF82BC4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EE80B-9AC3-45AC-883C-54DE32CC6B09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860E3-659A-4FAB-A6F4-91984347C88E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60923-5FDF-472A-9495-83D2CE84D328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18B58-ED0C-4413-B1DA-B160FE9014C3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84CC3B2-7C6A-488E-9BB6-CF93F68F1FF1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2EF5F18-75A2-4DC1-B6F6-1C66CCF73255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D8D9780-6A52-4C4E-A302-C41E1978576F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5729CEE-98CA-473C-A64A-51B5440331E4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94E4854-471F-4BE2-8D9A-0E141157CBFB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12DAE2D-F659-4CF0-8862-6E5BC1F85F67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DE10197-D9BC-44AE-9069-DD592EEE93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E5654-1AFB-4092-91CE-1FE36B1DF0C8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3BC4AAF-EC7F-417A-9755-709725386880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5D43BD7-8C4E-4A66-849E-F71F5243ACD6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CA70215-5D0C-43F8-9E7E-67A4FD1C54A8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6AAD790-612E-473A-A3D2-4A4772BE70DD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9F17065-F926-414B-A063-BC6DED1402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69C98-691D-4E46-881E-6CAD05573F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FFBB0B6-96A6-499A-9E32-8FC91A195DF8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8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50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Picture 10" descr=""/>
          <p:cNvPicPr/>
          <p:nvPr/>
        </p:nvPicPr>
        <p:blipFill>
          <a:blip r:embed="rId4"/>
          <a:stretch/>
        </p:blipFill>
        <p:spPr>
          <a:xfrm>
            <a:off x="0" y="4280040"/>
            <a:ext cx="9144000" cy="2568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"/>
          <p:cNvPicPr/>
          <p:nvPr/>
        </p:nvPicPr>
        <p:blipFill>
          <a:blip r:embed="rId5"/>
          <a:srcRect l="0" t="0" r="20736" b="-9021"/>
          <a:stretch/>
        </p:blipFill>
        <p:spPr>
          <a:xfrm>
            <a:off x="108000" y="6308640"/>
            <a:ext cx="887400" cy="459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2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99E85BA-A49E-4C14-9F58-905C209DB131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97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Num" idx="3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CCF867D-7BD0-44C0-84CA-4F57973207FA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142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Num" idx="4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F596D0C-7B44-4C36-B057-157D7F21A60D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187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sldNum" idx="5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47B9643-2B0E-474C-9C1D-D0FB2462D9D6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232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Num" idx="6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FF9F83A-F04D-4169-B1E2-D53423EE0E71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277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sldNum" idx="7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1F7D2F9-C7BE-4929-B2AF-89C89C13C332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21844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CA" sz="4000" spc="-1" strike="noStrike">
                <a:solidFill>
                  <a:srgbClr val="f2f2f2"/>
                </a:solidFill>
                <a:latin typeface="Calibri"/>
              </a:rPr>
              <a:t>DAL-XSD: XML schema proposal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68360" y="907920"/>
            <a:ext cx="812808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Date: 2013-12-11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DMS#: 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Author: Simon Merrall, Andreas Sayegh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Company: Deutsche Telekom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For working group: SHTF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For document: GWD042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9" name="Slide Number Placeholder 6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FF224D-6A78-49DD-98F6-C38DA3719033}" type="slidenum"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main Modu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B213AA-8E4F-47E7-90E3-00B7C8E27218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BBCAF4-1FFE-45CD-A0B9-05DACDB0C10C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6" name="Group 9"/>
          <p:cNvGrpSpPr/>
          <p:nvPr/>
        </p:nvGrpSpPr>
        <p:grpSpPr>
          <a:xfrm>
            <a:off x="457200" y="1738440"/>
            <a:ext cx="5029200" cy="3757320"/>
            <a:chOff x="457200" y="1738440"/>
            <a:chExt cx="5029200" cy="3757320"/>
          </a:xfrm>
        </p:grpSpPr>
        <p:pic>
          <p:nvPicPr>
            <p:cNvPr id="377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120"/>
              <a:ext cx="5029200" cy="350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9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Reusable elements are declared in the Modules s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5579640" y="1981080"/>
            <a:ext cx="312444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 consists of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Name 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–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 unique in th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mai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Actions section 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Events se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 extend another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 referenced by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main id (must b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ncluded)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 nam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1" name="Folded Corner 13"/>
          <p:cNvSpPr/>
          <p:nvPr/>
        </p:nvSpPr>
        <p:spPr>
          <a:xfrm rot="1017600">
            <a:off x="3529800" y="5374080"/>
            <a:ext cx="1981440" cy="948240"/>
          </a:xfrm>
          <a:prstGeom prst="foldedCorner">
            <a:avLst>
              <a:gd name="adj" fmla="val 19231"/>
            </a:avLst>
          </a:prstGeom>
          <a:gradFill rotWithShape="0">
            <a:gsLst>
              <a:gs pos="0">
                <a:srgbClr val="a6e3d1"/>
              </a:gs>
              <a:gs pos="100000">
                <a:srgbClr val="a6e3d1"/>
              </a:gs>
            </a:gsLst>
            <a:lin ang="4380000"/>
          </a:gradFill>
          <a:ln w="9360">
            <a:solidFill>
              <a:srgbClr val="a6e3d1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4617b"/>
                </a:solidFill>
                <a:latin typeface="Comic Sans MS"/>
                <a:ea typeface="Comic Sans MS"/>
              </a:rPr>
              <a:t>Do not use globally unique identifiers for module classes – Domain should act as a scop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Module Clas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3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F70F9B-CD53-4B6A-B391-466C79F1758A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CB104D-F4E4-4809-8BB4-E247FEF78915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5" name="Group 9"/>
          <p:cNvGrpSpPr/>
          <p:nvPr/>
        </p:nvGrpSpPr>
        <p:grpSpPr>
          <a:xfrm>
            <a:off x="457200" y="1738440"/>
            <a:ext cx="5029200" cy="4318200"/>
            <a:chOff x="457200" y="1738440"/>
            <a:chExt cx="5029200" cy="4318200"/>
          </a:xfrm>
        </p:grpSpPr>
        <p:sp>
          <p:nvSpPr>
            <p:cNvPr id="386" name="TextBox 5"/>
            <p:cNvSpPr/>
            <p:nvPr/>
          </p:nvSpPr>
          <p:spPr>
            <a:xfrm>
              <a:off x="457200" y="2002680"/>
              <a:ext cx="5029200" cy="4053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Class name="BooleanState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c&gt;…&lt;/Doc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get" type="boolean"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Obtain the current associated state.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/Doc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setTarget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Obtain the current associated state.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/Doc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rg name="value" type="boolean"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&lt;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Desired value of the associated state.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&lt;/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/Arg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ModuleClas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Round Same Side Corner Rectangle 8"/>
            <p:cNvSpPr/>
            <p:nvPr/>
          </p:nvSpPr>
          <p:spPr>
            <a:xfrm>
              <a:off x="518760" y="1738440"/>
              <a:ext cx="1295280" cy="27360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8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BooleanState for modelling underlying binary st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5579640" y="1980720"/>
            <a:ext cx="30481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rovides operation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for reading and 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etting the stat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main Devic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C5864D-DEB6-44C9-8FEF-9CFADD02CFCE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F3B2D8-2EF0-426E-AB7B-F68B9755854E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Group 9"/>
          <p:cNvGrpSpPr/>
          <p:nvPr/>
        </p:nvGrpSpPr>
        <p:grpSpPr>
          <a:xfrm>
            <a:off x="457200" y="1738440"/>
            <a:ext cx="5029200" cy="4557600"/>
            <a:chOff x="457200" y="1738440"/>
            <a:chExt cx="5029200" cy="4557600"/>
          </a:xfrm>
        </p:grpSpPr>
        <p:pic>
          <p:nvPicPr>
            <p:cNvPr id="394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480"/>
              <a:ext cx="5029200" cy="430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5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6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Now have all the elements to define a dev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5579640" y="1980720"/>
            <a:ext cx="3124440" cy="34894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onsists of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ome meta-info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Vendor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Model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etc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s se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Contains Module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Not ModuleClasse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evices Modu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9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3E9C05-B27A-49C5-99C7-B721753F85B3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4C9BC0-307C-41C7-8911-9456A82BDE44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1" name="Group 9"/>
          <p:cNvGrpSpPr/>
          <p:nvPr/>
        </p:nvGrpSpPr>
        <p:grpSpPr>
          <a:xfrm>
            <a:off x="457200" y="1738440"/>
            <a:ext cx="5029200" cy="2140560"/>
            <a:chOff x="457200" y="1738440"/>
            <a:chExt cx="5029200" cy="2140560"/>
          </a:xfrm>
        </p:grpSpPr>
        <p:sp>
          <p:nvSpPr>
            <p:cNvPr id="402" name="TextBox 5"/>
            <p:cNvSpPr/>
            <p:nvPr/>
          </p:nvSpPr>
          <p:spPr>
            <a:xfrm>
              <a:off x="457200" y="2003040"/>
              <a:ext cx="5029200" cy="1875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name="Modules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minOccurs="0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maxOccurs="unbounded" ref="Module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element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name="Module" type="ModuleDef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4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Device Modules essentially the same a ModuleClas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5579640" y="1980720"/>
            <a:ext cx="31244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 extend a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not be extende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6" name="Content Placeholder 2"/>
          <p:cNvSpPr/>
          <p:nvPr/>
        </p:nvSpPr>
        <p:spPr>
          <a:xfrm>
            <a:off x="380880" y="3962520"/>
            <a:ext cx="8382240" cy="21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The ModuleClass is the unit of re-u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5564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Hence the basis of abstra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Device Modules can extend standard ModuleClas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ModuleClasses can be imported from other domai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5564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Modules cann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Device Modu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4C4BF1-E9C9-4A5D-AD13-04AC6019E79D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5B3CB5-9023-41E2-93EB-B9CB0911DC96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0" name="Group 9"/>
          <p:cNvGrpSpPr/>
          <p:nvPr/>
        </p:nvGrpSpPr>
        <p:grpSpPr>
          <a:xfrm>
            <a:off x="457200" y="1738440"/>
            <a:ext cx="5029200" cy="2932560"/>
            <a:chOff x="457200" y="1738440"/>
            <a:chExt cx="5029200" cy="2932560"/>
          </a:xfrm>
        </p:grpSpPr>
        <p:sp>
          <p:nvSpPr>
            <p:cNvPr id="411" name="TextBox 5"/>
            <p:cNvSpPr/>
            <p:nvPr/>
          </p:nvSpPr>
          <p:spPr>
            <a:xfrm>
              <a:off x="457200" y="2003040"/>
              <a:ext cx="5029200" cy="2667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 name="proprietaryPower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on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off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state" type="string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s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&lt;/Modul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 name="power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extends domain="hgi.dal.core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class="BooleanState"/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&lt;/Modul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3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Power </a:t>
            </a:r>
            <a:r>
              <a:rPr b="0" lang="en-US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–</a:t>
            </a: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 candidate for BooleanSt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579640" y="1981080"/>
            <a:ext cx="3048120" cy="28209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Vendor can define „inline“ proprietary modul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impler 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–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 reduce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finition effort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But little abstra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415" name="Content Placeholder 2" descr=""/>
          <p:cNvPicPr/>
          <p:nvPr/>
        </p:nvPicPr>
        <p:blipFill>
          <a:blip r:embed="rId2"/>
          <a:stretch/>
        </p:blipFill>
        <p:spPr>
          <a:xfrm>
            <a:off x="378000" y="4748040"/>
            <a:ext cx="8388000" cy="1231920"/>
          </a:xfrm>
          <a:prstGeom prst="rect">
            <a:avLst/>
          </a:prstGeom>
          <a:ln w="0">
            <a:noFill/>
          </a:ln>
        </p:spPr>
      </p:pic>
      <p:sp>
        <p:nvSpPr>
          <p:cNvPr id="416" name="Folded Corner 11"/>
          <p:cNvSpPr/>
          <p:nvPr/>
        </p:nvSpPr>
        <p:spPr>
          <a:xfrm rot="20923800">
            <a:off x="6603840" y="5519520"/>
            <a:ext cx="1981080" cy="725400"/>
          </a:xfrm>
          <a:prstGeom prst="foldedCorner">
            <a:avLst>
              <a:gd name="adj" fmla="val 19231"/>
            </a:avLst>
          </a:prstGeom>
          <a:gradFill rotWithShape="0">
            <a:gsLst>
              <a:gs pos="0">
                <a:srgbClr val="a6e3d1"/>
              </a:gs>
              <a:gs pos="100000">
                <a:srgbClr val="a6e3d1"/>
              </a:gs>
            </a:gsLst>
            <a:lin ang="6078000"/>
          </a:gradFill>
          <a:ln w="9360">
            <a:solidFill>
              <a:srgbClr val="a6e3d1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4617b"/>
                </a:solidFill>
                <a:latin typeface="Comic Sans MS"/>
                <a:ea typeface="Comic Sans MS"/>
              </a:rPr>
              <a:t>Only need hgi-core domain to use power modu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Device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B7C0DE-743C-44F3-9250-16199ABE4F24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D90F22-EF78-465C-8609-C0CBED633763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0" name="Group 9"/>
          <p:cNvGrpSpPr/>
          <p:nvPr/>
        </p:nvGrpSpPr>
        <p:grpSpPr>
          <a:xfrm>
            <a:off x="457200" y="1738440"/>
            <a:ext cx="5029200" cy="4318200"/>
            <a:chOff x="457200" y="1738440"/>
            <a:chExt cx="5029200" cy="4318200"/>
          </a:xfrm>
        </p:grpSpPr>
        <p:sp>
          <p:nvSpPr>
            <p:cNvPr id="421" name="TextBox 5"/>
            <p:cNvSpPr/>
            <p:nvPr/>
          </p:nvSpPr>
          <p:spPr>
            <a:xfrm>
              <a:off x="457200" y="2002680"/>
              <a:ext cx="5029200" cy="4053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?xml version="1.0" encoding="iso-8859-1"?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main xmlns="http://hgi.org/xml/dal/1.0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xmlns:xi="http://www.w3.org/2001/XInclude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id="com.telekom"&gt;  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&lt;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i:include parse="xml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href="http://hgi.org/dal-core.xml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evic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evice id="switch.power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eviceInfo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Name&gt;PowerSwitch&lt;/Nam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Vendor&gt;Telekom Laboratories&lt;/Vendor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eviceInfo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i="1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</a:t>
              </a:r>
              <a:r>
                <a:rPr b="1" i="1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ee previous slide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evi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evic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omain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Round Same Side Corner Rectangle 8"/>
            <p:cNvSpPr/>
            <p:nvPr/>
          </p:nvSpPr>
          <p:spPr>
            <a:xfrm>
              <a:off x="518760" y="1738440"/>
              <a:ext cx="1295280" cy="27360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3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A device with a power switch defined by DTAG 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5579640" y="1981080"/>
            <a:ext cx="3048120" cy="31831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tails of device discovery to be determined, but device can be used by applications understanding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ower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BooleanStat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Licensing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56840" y="1196640"/>
            <a:ext cx="8381880" cy="31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is is a contribution to GWD042, which is aimed to be published by HGI under royalty free license conditions (e. g. Apache License)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e author(s) hereby confirm their awareness that this contribution may become a part of an HGI publication under royalty free licensing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4617b"/>
                </a:solidFill>
                <a:latin typeface="Calibri"/>
              </a:rPr>
              <a:t>Warning: Any further work on this contribution will also become part of a royalty free licensing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7F0D8D-E7E2-4F8D-8FC5-61AA467871C7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00EA1C-7441-44EF-B2D2-9720780ED1F6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Purpose &amp; Action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6840" y="1196640"/>
            <a:ext cx="838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is contribution proposes a draft for an XML schema that describes device type capabiliti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e schema encourages modular approach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We‘d like the HGI adopts the schema as a starting point and starts to work on its finaliza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553A5F-BFBB-4F3A-9669-7B4C2899D860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E7B8E2-35A3-42F6-B625-146B12C9DE19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Some Guiding Princip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456840" y="1197000"/>
            <a:ext cx="8381880" cy="387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vice description is in XML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ry to avoid becoming too complex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echanism for referencing other definitions require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Rely on standard XML semantic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scription should be a valid XML document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 not introduce additional semantic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(e.g. &lt;import-device id=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  <a:ea typeface="Courier New"/>
              </a:rPr>
              <a:t>"…"/&gt;)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  <a:ea typeface="Courier New"/>
              </a:rPr>
              <a:t>Use of standard XML tools (parser, XSLT) should be possibl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  <a:ea typeface="Courier New"/>
              </a:rPr>
              <a:t>Identify unit of re-use and abstra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1009A7-4F91-43A3-8164-186C356D4584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2B9CAB-2D06-49D9-A2CE-19D2F7A6FCA6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Folded Corner 6"/>
          <p:cNvSpPr/>
          <p:nvPr/>
        </p:nvSpPr>
        <p:spPr>
          <a:xfrm rot="20923800">
            <a:off x="6581880" y="5409360"/>
            <a:ext cx="1981080" cy="725400"/>
          </a:xfrm>
          <a:prstGeom prst="foldedCorner">
            <a:avLst>
              <a:gd name="adj" fmla="val 19231"/>
            </a:avLst>
          </a:prstGeom>
          <a:gradFill rotWithShape="0">
            <a:gsLst>
              <a:gs pos="0">
                <a:srgbClr val="a6e3d1"/>
              </a:gs>
              <a:gs pos="100000">
                <a:srgbClr val="a6e3d1"/>
              </a:gs>
            </a:gsLst>
            <a:lin ang="6078000"/>
          </a:gradFill>
          <a:ln w="9360">
            <a:solidFill>
              <a:srgbClr val="a6e3d1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4617b"/>
                </a:solidFill>
                <a:latin typeface="Comic Sans MS"/>
                <a:ea typeface="Comic Sans MS"/>
              </a:rPr>
              <a:t>Not addressed: Standard dictionary for terms such as power, light, et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Namespace Declaration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80880" y="4191120"/>
            <a:ext cx="8382240" cy="12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An XML Schema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Using some standard XML element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Needed for import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B53B16-4A93-4BC7-9977-54CA50808108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DF9A81-7CFC-4179-849C-FDDF60A6555D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7" name="Group 9"/>
          <p:cNvGrpSpPr/>
          <p:nvPr/>
        </p:nvGrpSpPr>
        <p:grpSpPr>
          <a:xfrm>
            <a:off x="457200" y="1752480"/>
            <a:ext cx="8272440" cy="1546560"/>
            <a:chOff x="457200" y="1752480"/>
            <a:chExt cx="8272440" cy="1546560"/>
          </a:xfrm>
        </p:grpSpPr>
        <p:sp>
          <p:nvSpPr>
            <p:cNvPr id="338" name="TextBox 5"/>
            <p:cNvSpPr/>
            <p:nvPr/>
          </p:nvSpPr>
          <p:spPr>
            <a:xfrm>
              <a:off x="457200" y="2017080"/>
              <a:ext cx="8272440" cy="1281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chema targetNamespace="http://hgi.org/xml/dal/1.0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mlns="http://hgi.org/xml/dal/1.0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mlns:xs="http://www.w3.org/2001/XMLSchema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lementFormDefault="qualified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import namespace="http://www.w3.org/XML/1998/namespace" 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 schemaLocation="http://www.w3.org/2001/03/xml.xsd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Round Same Side Corner Rectangle 8"/>
            <p:cNvSpPr/>
            <p:nvPr/>
          </p:nvSpPr>
          <p:spPr>
            <a:xfrm>
              <a:off x="518760" y="175248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Import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80880" y="457164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chema provides </a:t>
            </a:r>
            <a:r>
              <a:rPr b="1" lang="de-DE" sz="2400" spc="-1" strike="noStrike">
                <a:solidFill>
                  <a:srgbClr val="04617b"/>
                </a:solidFill>
                <a:latin typeface="Calibri"/>
              </a:rPr>
              <a:t>Imports 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ag for importing one or more </a:t>
            </a:r>
            <a:r>
              <a:rPr b="1" lang="de-DE" sz="2400" spc="-1" strike="noStrike">
                <a:solidFill>
                  <a:srgbClr val="04617b"/>
                </a:solidFill>
                <a:latin typeface="Calibri"/>
              </a:rPr>
              <a:t>Domain 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finition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mported Domain is part of document 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–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 not merely a referenc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C83BB2-77EB-4465-9358-58D0FAD2EF34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C1F6B1-C03D-4E05-9D11-56042C569A14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4" name="Group 9"/>
          <p:cNvGrpSpPr/>
          <p:nvPr/>
        </p:nvGrpSpPr>
        <p:grpSpPr>
          <a:xfrm>
            <a:off x="457200" y="1738440"/>
            <a:ext cx="8272440" cy="2734560"/>
            <a:chOff x="457200" y="1738440"/>
            <a:chExt cx="8272440" cy="2734560"/>
          </a:xfrm>
        </p:grpSpPr>
        <p:sp>
          <p:nvSpPr>
            <p:cNvPr id="345" name="TextBox 5"/>
            <p:cNvSpPr/>
            <p:nvPr/>
          </p:nvSpPr>
          <p:spPr>
            <a:xfrm>
              <a:off x="457200" y="2003040"/>
              <a:ext cx="8272440" cy="2469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group name="Imports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minOccurs="0" ref="Imports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group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name="Imports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minOccurs="0" maxOccurs="unbounded" ref="Domain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element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Ideally the descriptions build on standard defini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main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579A08-F173-4B28-844B-1D4C509A8B44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48D723-36BA-4D20-B51F-E8429D1F0A0D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Group 9"/>
          <p:cNvGrpSpPr/>
          <p:nvPr/>
        </p:nvGrpSpPr>
        <p:grpSpPr>
          <a:xfrm>
            <a:off x="457200" y="1738440"/>
            <a:ext cx="5029200" cy="4357440"/>
            <a:chOff x="457200" y="1738440"/>
            <a:chExt cx="5029200" cy="4357440"/>
          </a:xfrm>
        </p:grpSpPr>
        <p:pic>
          <p:nvPicPr>
            <p:cNvPr id="352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120"/>
              <a:ext cx="5029200" cy="410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4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Multiple device descriptions are collected in a </a:t>
            </a:r>
            <a:r>
              <a:rPr b="0" i="1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5579640" y="1981080"/>
            <a:ext cx="3048120" cy="28209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main has a uniqu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d and consists of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mports section 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s section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ontaining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vices se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6" name="Content Placeholder 2"/>
          <p:cNvSpPr/>
          <p:nvPr/>
        </p:nvSpPr>
        <p:spPr>
          <a:xfrm>
            <a:off x="5580000" y="4952880"/>
            <a:ext cx="304812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xml:base tag needed for compatibility with xinclu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Domain Declaration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380880" y="3733560"/>
            <a:ext cx="8382240" cy="23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he default namespace is bound to the HGI-DAL Schema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he Domain defines a unique i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mports are realised using standard XML includ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Namespace for XML Includes must also be declared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Domain documents can be included in the Imports section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Modern standard XML tools are </a:t>
            </a:r>
            <a:r>
              <a:rPr b="0" i="1" lang="de-DE" sz="2000" spc="-1" strike="noStrike">
                <a:solidFill>
                  <a:srgbClr val="04617b"/>
                </a:solidFill>
                <a:latin typeface="Calibri"/>
              </a:rPr>
              <a:t>xinclude aware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3DC629-8B05-4CF0-9F8C-A219BDC1532E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FE5DD6-4CE1-4D97-BB1B-31315C67DB04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1" name="Group 9"/>
          <p:cNvGrpSpPr/>
          <p:nvPr/>
        </p:nvGrpSpPr>
        <p:grpSpPr>
          <a:xfrm>
            <a:off x="457200" y="1738440"/>
            <a:ext cx="8272440" cy="1942560"/>
            <a:chOff x="457200" y="1738440"/>
            <a:chExt cx="8272440" cy="1942560"/>
          </a:xfrm>
        </p:grpSpPr>
        <p:sp>
          <p:nvSpPr>
            <p:cNvPr id="362" name="TextBox 5"/>
            <p:cNvSpPr/>
            <p:nvPr/>
          </p:nvSpPr>
          <p:spPr>
            <a:xfrm>
              <a:off x="457200" y="2003040"/>
              <a:ext cx="8272440" cy="1677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?xml version="1.0" encoding="iso-8859-1"?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main xmlns:xi="http://www.w3.org/2001/XInclude"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mlns="http://hgi.org/xml/dal/1.0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d="com.telekom”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i:include href=”http://hgi.org/dal-core.xml" parse="xml" 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...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4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Device Descriptions are XML Domain Doc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cumentation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79985D-1F91-42E1-B49B-B099905A2097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F9F707-E833-45ED-A89F-608AEEB11D04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8" name="Group 9"/>
          <p:cNvGrpSpPr/>
          <p:nvPr/>
        </p:nvGrpSpPr>
        <p:grpSpPr>
          <a:xfrm>
            <a:off x="457200" y="1738440"/>
            <a:ext cx="5029200" cy="3957480"/>
            <a:chOff x="457200" y="1738440"/>
            <a:chExt cx="5029200" cy="3957480"/>
          </a:xfrm>
        </p:grpSpPr>
        <p:pic>
          <p:nvPicPr>
            <p:cNvPr id="369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120"/>
              <a:ext cx="5029200" cy="370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1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Small HTML-style tag-set for documenting the defin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5579640" y="1981080"/>
            <a:ext cx="3048120" cy="3105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onsists of paragraph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and imag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cText group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rovides mark-up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for emphasis etc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f there is only on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aragraph the tag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 be omitte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1T09:54:16Z</dcterms:created>
  <dc:creator>cb, hwb</dc:creator>
  <dc:description/>
  <dc:language>en-US</dc:language>
  <cp:lastModifiedBy>ANDREAS SAYEGH</cp:lastModifiedBy>
  <cp:lastPrinted>2000-03-02T16:25:29Z</cp:lastPrinted>
  <dcterms:modified xsi:type="dcterms:W3CDTF">2013-12-11T10:59:24Z</dcterms:modified>
  <cp:revision>394</cp:revision>
  <dc:subject/>
  <dc:title>Board Strategy Meeting HGI - SWEX</dc:title>
</cp:coreProperties>
</file>