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83400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DF450-2E4F-4495-AF83-2936F332E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CFDC2-E2B3-4BE6-AF45-71405877A9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B84E1-6FF8-4099-A286-B088CA6AB6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EF1C0-6658-424D-89F8-7D32F3565F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32C29-D8DC-4536-A8A4-A55B3D65128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505C5-FFFC-4251-879C-876188CF7F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0F79C-9870-48A8-A2AF-DE88475DF6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85F42-E8D0-4C18-BE82-9F6DC38F37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5119-B5BE-4366-8A65-4C05845985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E40970-60BD-4553-8E3F-A462D7E4A6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9FC40-8DFB-4A13-B33E-DFBF8ED1A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89D4-D864-49C3-B0EB-E034B8B55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F51C6-C3CD-409D-A7E0-E3C2A9C4F3A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0489E-4651-4748-90EE-7F431F5DE7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BDFC-046B-4374-919E-DB3680473D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E8E69-9F40-4FEB-B3D3-3607FC4A84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0739A-BD1B-408D-BB43-3A4D4668DDC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0776-3E61-4D8B-BD9B-6C88771201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15C0-19A7-4795-AD75-0815F1CC844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79C6-34CD-4BD1-B7D9-B67E41AC6D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489-D75E-49BE-A09B-A47D00FED2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939A-9DC9-434A-836D-52C58916A3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645B-7431-4B1B-ACFA-315305D2C2B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A3A3-6387-49CF-AB90-69579A0ED2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8780-0AD5-46AC-85B5-3A524CAD9D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ED17-3A15-4F83-9368-2E85B4956A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6AD2-D56F-491D-800A-BC08282B392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F96-AA18-4EC5-A297-165266AAC3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EA33-6A07-4515-90AC-83629A9E6E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16B9-C7E5-4558-9084-5CD07B45DE7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4A3A3-D18A-49AC-B8AB-84D203FA9E2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0F04C-B858-4F77-94FB-790C7972549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0F8A0B-0787-48FE-A1A5-CDA769D632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F5069-6140-419D-8524-775391BB117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292A00-420F-400D-9633-676253B93B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D2BF4-3D36-4F19-8A40-46A8BEBDCB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AEA0ED-8775-423E-B3C0-7D15982F01E2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1ECBC-EE98-4381-840B-25B00E9BD25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8BC20-4D84-4B62-B92C-60F89836552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85F54-95A2-4525-B616-B3121601EE7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F57736-246C-4367-8394-D8E34A62DA0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0F3BC-926E-4980-9A0C-85E1A3A32A1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7332F7-39BA-4A1C-ACEB-A54B76481D8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323C5-AEC0-4E92-B37C-F5F5AE172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66F2-E369-48E4-836E-C5B546FF7EE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E9C5D2-6D55-4C5F-BCFC-DEE10CD579F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AC807-4192-4AA5-8B2A-1086A9B535E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7EFA7-D4B4-46E3-B1C0-A992901FA20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149A7-1A0E-4C4D-AFAE-DCABA880D7F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659FA-7196-42E2-912E-779FAB5DA6B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5BA0C8-5FBD-4519-8445-645ECB9628F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9654D-A403-474B-B687-E8D986DBCB9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29EFC-E276-4635-AFCF-F52BF326C7A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ED21E-5D94-4E55-817A-5C831748720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B78BA3-A214-4A9E-AD42-C4DFD4D8E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FD911-B888-4644-B86D-DB4C5924879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55E44A-4C01-4FB7-BEAB-7529360976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60A60-1964-47A3-8BAE-B82CCD0E0F5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649C-C8F4-4210-B4C9-F36634E0C5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01555-1F33-4B8B-9EC4-0EE7A147C79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EF57D-8D8B-487C-9880-4898D3748F9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3B6B7-C12C-4552-AE0B-DE80599C396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F49C-6062-4B05-9D3A-595EC357232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35D9E-6111-406C-B3D0-69A76694EC6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8D7D8-1494-4EA8-BB9C-E431E8CED14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5E10-56A4-4F6C-8BC3-27B435E839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69366-E385-4A92-B7B8-297A9FB8B44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60E0-C422-438C-9E82-4B18DC4C0FD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48B20-AD30-45E4-B790-75D4AAF937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FBED6-00D2-4408-BF34-34C13A72C40B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D8F80A-FBC8-4621-8348-759FB30AACC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B0DC72-B5BA-4382-93E2-3DDCEA42D55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1854D0-1025-4F30-AD91-028259935D8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298E3B-3297-4D09-9528-C063828D64C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9EC3B-C74D-409C-8B50-922E543B76C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6120"/>
            <a:ext cx="8362800" cy="40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2A9D9-F69A-4368-AB45-71AFAA8B15D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AEF4EB-9BF8-40BB-A40A-C187FC02E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5825E-F245-4CA7-80BE-2D7C860D18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1287755-F01B-4F4C-9AD3-FB3B071D3F2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D07BC0-A36D-48D1-ACD5-F6C5164EF2B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10CBC7-4226-4F6C-8F9F-49A33A254AF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42640" y="386640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183529-C86E-4571-8E76-BA052D264FB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8464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12080" y="119664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8464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12080" y="3866400"/>
            <a:ext cx="269244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49D2D6D-0F8C-45E7-9296-46FE9BB96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2640" y="1196640"/>
            <a:ext cx="408096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866400"/>
            <a:ext cx="8362800" cy="243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DE81-634D-4E5D-B0C6-E3025F4BA5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DC0E46-3AB8-4DE3-8D9D-FEF3F8FD6598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8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50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4"/>
          <a:stretch/>
        </p:blipFill>
        <p:spPr>
          <a:xfrm>
            <a:off x="0" y="4280040"/>
            <a:ext cx="9144000" cy="2568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5"/>
          <a:srcRect l="0" t="0" r="20736" b="-9021"/>
          <a:stretch/>
        </p:blipFill>
        <p:spPr>
          <a:xfrm>
            <a:off x="108000" y="6308640"/>
            <a:ext cx="887400" cy="459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2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FB2062-163A-40B2-B32F-402D9290A6CC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Num" idx="3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556F686-86BB-4F6E-8A8C-02C3D9E4E054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Num" idx="4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3457C0-ED96-4011-BF04-4CBEF21DFFBA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18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sldNum" idx="5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991D6A-802C-448B-959E-CC5C7A9B6246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32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6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09D0168-23A5-4C91-B308-CF3385D7AACE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AutoShape 1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/>
              </a:gs>
              <a:gs pos="100000">
                <a:srgbClr val="00ebf8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"/>
          <p:cNvSpPr/>
          <p:nvPr/>
        </p:nvSpPr>
        <p:spPr>
          <a:xfrm>
            <a:off x="4381560" y="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/>
              </a:gs>
              <a:gs pos="100000">
                <a:srgbClr val="009be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15"/>
          <p:cNvSpPr/>
          <p:nvPr/>
        </p:nvSpPr>
        <p:spPr>
          <a:xfrm>
            <a:off x="5562720" y="36576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2" descr=""/>
          <p:cNvPicPr/>
          <p:nvPr/>
        </p:nvPicPr>
        <p:blipFill>
          <a:blip r:embed="rId3"/>
          <a:stretch/>
        </p:blipFill>
        <p:spPr>
          <a:xfrm>
            <a:off x="76320" y="6424560"/>
            <a:ext cx="11109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3"/>
          <p:cNvSpPr/>
          <p:nvPr/>
        </p:nvSpPr>
        <p:spPr>
          <a:xfrm>
            <a:off x="6372360" y="-1440"/>
            <a:ext cx="2447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MS # </a:t>
            </a: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HGI02374      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362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rmAutofit/>
          </a:bodyPr>
          <a:p>
            <a:pPr marL="343080" indent="-34308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1" marL="743040" indent="-28584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2" marL="11430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3" marL="16002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4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5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  <a:p>
            <a:pPr lvl="6" marL="2057400" indent="-228600">
              <a:lnSpc>
                <a:spcPct val="98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Num" idx="7"/>
          </p:nvPr>
        </p:nvSpPr>
        <p:spPr>
          <a:xfrm>
            <a:off x="7885080" y="6416280"/>
            <a:ext cx="797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CA" sz="2000" spc="-1" strike="noStrike">
                <a:solidFill>
                  <a:srgbClr val="04617b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99C4EB-76CD-43BA-9891-54EAF43E5481}" type="slidenum">
              <a:rPr b="1" lang="en-CA" sz="2000" spc="-1" strike="noStrike">
                <a:solidFill>
                  <a:srgbClr val="04617b"/>
                </a:solidFill>
                <a:latin typeface="Times New Roman"/>
                <a:ea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184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CA" sz="4000" spc="-1" strike="noStrike">
                <a:solidFill>
                  <a:srgbClr val="f2f2f2"/>
                </a:solidFill>
                <a:latin typeface="Calibri"/>
              </a:rPr>
              <a:t>DAL-XSD: XML schema proposal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68360" y="907920"/>
            <a:ext cx="81280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3280" bIns="46800" anchor="t">
            <a:noAutofit/>
          </a:bodyPr>
          <a:p>
            <a:pPr indent="0">
              <a:lnSpc>
                <a:spcPct val="98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ate: 2013-12-11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DMS#: 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Author: Simon Merrall, Andreas Sayegh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Company: Deutsche Telekom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working group: SHTF</a:t>
            </a:r>
            <a:br>
              <a:rPr sz="3200"/>
            </a:br>
            <a:r>
              <a:rPr b="0" lang="en-CA" sz="3200" spc="-1" strike="noStrike">
                <a:solidFill>
                  <a:srgbClr val="f2f2f2"/>
                </a:solidFill>
                <a:latin typeface="Calibri"/>
              </a:rPr>
              <a:t>For document: GWD042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Slide Number Placeholder 6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7C245A-35D6-4454-822E-62E50435D089}" type="slidenum"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16800-E14A-478A-B0D9-EDA5ACD7E44B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B15E1B-40BF-4507-8380-DA53FDE0019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6" name="Group 9"/>
          <p:cNvGrpSpPr/>
          <p:nvPr/>
        </p:nvGrpSpPr>
        <p:grpSpPr>
          <a:xfrm>
            <a:off x="457200" y="1738440"/>
            <a:ext cx="5029200" cy="3757320"/>
            <a:chOff x="457200" y="1738440"/>
            <a:chExt cx="5029200" cy="3757320"/>
          </a:xfrm>
        </p:grpSpPr>
        <p:pic>
          <p:nvPicPr>
            <p:cNvPr id="377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5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Reusable elements are declared in the Modules s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579640" y="1981080"/>
            <a:ext cx="312444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Name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unique in th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ction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Event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nother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 referenced by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id (must b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ncluded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 nam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Folded Corner 13"/>
          <p:cNvSpPr/>
          <p:nvPr/>
        </p:nvSpPr>
        <p:spPr>
          <a:xfrm rot="1017600">
            <a:off x="3529800" y="5374080"/>
            <a:ext cx="1981440" cy="94824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4380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Do not use globally unique identifiers for module classes – Domain should act as a scop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Module Clas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ACB5D-498C-4AB1-83F8-CE1B2A7C7F6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F002A9-5296-45A1-92DB-39EB243B04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386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Class name="BooleanState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…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get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etTarget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Obtain the current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Doc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rg name="value" type="boolean"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Desired value of the associated state.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&lt;/Doc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&lt;/Arg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Clas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BooleanState for modelling underlying binary 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579640" y="1980720"/>
            <a:ext cx="30481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operation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reading and 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etting the 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 Devic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3A86E5-DD94-4D94-A243-2FFE901FA87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184AF-9724-49F8-B960-23584F64BA8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Group 9"/>
          <p:cNvGrpSpPr/>
          <p:nvPr/>
        </p:nvGrpSpPr>
        <p:grpSpPr>
          <a:xfrm>
            <a:off x="457200" y="1738440"/>
            <a:ext cx="5029200" cy="4557600"/>
            <a:chOff x="457200" y="1738440"/>
            <a:chExt cx="5029200" cy="4557600"/>
          </a:xfrm>
        </p:grpSpPr>
        <p:pic>
          <p:nvPicPr>
            <p:cNvPr id="394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480"/>
              <a:ext cx="5029200" cy="43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6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Now have all the elements to define a dev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579640" y="1980720"/>
            <a:ext cx="3124440" cy="34894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ome meta-info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Vendor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l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etc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Contains Modul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ot ModuleClasse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evices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9930D-1886-4CEB-8CEF-83E36F7759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034007-43D5-40D6-A0BF-0D4F90866AB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1" name="Group 9"/>
          <p:cNvGrpSpPr/>
          <p:nvPr/>
        </p:nvGrpSpPr>
        <p:grpSpPr>
          <a:xfrm>
            <a:off x="457200" y="1738440"/>
            <a:ext cx="5029200" cy="2140560"/>
            <a:chOff x="457200" y="1738440"/>
            <a:chExt cx="5029200" cy="2140560"/>
          </a:xfrm>
        </p:grpSpPr>
        <p:sp>
          <p:nvSpPr>
            <p:cNvPr id="402" name="TextBox 5"/>
            <p:cNvSpPr/>
            <p:nvPr/>
          </p:nvSpPr>
          <p:spPr>
            <a:xfrm>
              <a:off x="457200" y="2003040"/>
              <a:ext cx="5029200" cy="1875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maxOccurs="unbounded" ref="Module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Module" type="ModuleDe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Modules essentially the same a ModuleCla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5579640" y="1980720"/>
            <a:ext cx="3124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extend a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not be extend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Content Placeholder 2"/>
          <p:cNvSpPr/>
          <p:nvPr/>
        </p:nvSpPr>
        <p:spPr>
          <a:xfrm>
            <a:off x="380880" y="3962520"/>
            <a:ext cx="838224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The ModuleClass is the unit of re-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Hence the basis of abstr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Device Modules can extend standard ModuleCla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Classes can be imported from other dom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5564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Calibri"/>
              </a:rPr>
              <a:t>Modules cann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 Modu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F7AB16-21A6-44A3-B5EA-9E61E134FF6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90ED5-F31E-431B-A398-A3AF1E065E6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0" name="Group 9"/>
          <p:cNvGrpSpPr/>
          <p:nvPr/>
        </p:nvGrpSpPr>
        <p:grpSpPr>
          <a:xfrm>
            <a:off x="457200" y="1738440"/>
            <a:ext cx="5029200" cy="2932560"/>
            <a:chOff x="457200" y="1738440"/>
            <a:chExt cx="5029200" cy="2932560"/>
          </a:xfrm>
        </p:grpSpPr>
        <p:sp>
          <p:nvSpPr>
            <p:cNvPr id="411" name="TextBox 5"/>
            <p:cNvSpPr/>
            <p:nvPr/>
          </p:nvSpPr>
          <p:spPr>
            <a:xfrm>
              <a:off x="457200" y="2003040"/>
              <a:ext cx="5029200" cy="266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roprietary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off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Action name="state" type="string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Actions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 name="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extends domain="hgi.dal.cor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class="BooleanState"/&gt;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/Modul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Power </a:t>
            </a:r>
            <a:r>
              <a:rPr b="0" lang="en-US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–</a:t>
            </a: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candidate for Boolean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Vendor can define „inline“ proprietary modul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impler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reduce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 effor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ut little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415" name="Content Placeholder 2" descr=""/>
          <p:cNvPicPr/>
          <p:nvPr/>
        </p:nvPicPr>
        <p:blipFill>
          <a:blip r:embed="rId2"/>
          <a:stretch/>
        </p:blipFill>
        <p:spPr>
          <a:xfrm>
            <a:off x="378000" y="4748040"/>
            <a:ext cx="8388000" cy="1231920"/>
          </a:xfrm>
          <a:prstGeom prst="rect">
            <a:avLst/>
          </a:prstGeom>
          <a:ln w="0">
            <a:noFill/>
          </a:ln>
        </p:spPr>
      </p:pic>
      <p:sp>
        <p:nvSpPr>
          <p:cNvPr id="416" name="Folded Corner 11"/>
          <p:cNvSpPr/>
          <p:nvPr/>
        </p:nvSpPr>
        <p:spPr>
          <a:xfrm rot="20923800">
            <a:off x="6603840" y="551952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Only need hgi-core domain to use power modu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evice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FFA04-918D-43BF-B2B0-C7EAECC09E6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F31483-D4E3-4F6E-BD1F-9F9EB87B21A9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0" name="Group 9"/>
          <p:cNvGrpSpPr/>
          <p:nvPr/>
        </p:nvGrpSpPr>
        <p:grpSpPr>
          <a:xfrm>
            <a:off x="457200" y="1738440"/>
            <a:ext cx="5029200" cy="4318200"/>
            <a:chOff x="457200" y="1738440"/>
            <a:chExt cx="5029200" cy="4318200"/>
          </a:xfrm>
        </p:grpSpPr>
        <p:sp>
          <p:nvSpPr>
            <p:cNvPr id="421" name="TextBox 5"/>
            <p:cNvSpPr/>
            <p:nvPr/>
          </p:nvSpPr>
          <p:spPr>
            <a:xfrm>
              <a:off x="457200" y="2002680"/>
              <a:ext cx="5029200" cy="4053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="http://hgi.org/xml/dal/1.0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xmlns:xi="http://www.w3.org/2001/XInclude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id="com.telekom"&gt; 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parse="xml"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href="http://hgi.org/dal-core.xml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 id="switch.power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Name&gt;PowerSwitch&lt;/Nam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Vendor&gt;Telekom Laboratories&lt;/Vendor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Info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1" i="1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see previous slide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Modul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evice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Domain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Round Same Side Corner Rectangle 8"/>
            <p:cNvSpPr/>
            <p:nvPr/>
          </p:nvSpPr>
          <p:spPr>
            <a:xfrm>
              <a:off x="518760" y="1738440"/>
              <a:ext cx="1295280" cy="27360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3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A device with a power switch defined by DTAG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5579640" y="1981080"/>
            <a:ext cx="3048120" cy="31831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tails of device discovery to be determined, but device can be used by applications understanding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ower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BooleanStat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Licensing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6840" y="1196640"/>
            <a:ext cx="8381880" cy="310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is a contribution to GWD042, which is aimed to be published by HGI under royalty free license conditions (e. g. Apache License)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author(s) hereby confirm their awareness that this contribution may become a part of an HGI publication under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4617b"/>
                </a:solidFill>
                <a:latin typeface="Calibri"/>
              </a:rPr>
              <a:t>Warning: Any further work on this contribution will also become part of a royalty free licensing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C082F5-4E74-4C89-A8C7-C0FAF425966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6B7BB-4E98-43C8-9D64-5EA77C8A361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Purpose &amp; Ac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196640"/>
            <a:ext cx="838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is contribution proposes a draft for an XML schema that describes device type capabiliti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The schema encourages modular approach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We‘d like the HGI adopts the schema as a starting point and starts to work on its finaliza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827C53-5A98-4E77-A4A4-B4FB98A367C8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F5207-BFB9-41F1-9D4B-0A20978C9D9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Some Guiding Principle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6840" y="1197000"/>
            <a:ext cx="8381880" cy="38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 description is in XML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ry to avoid becoming too complex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echanism for referencing other definitions requir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Rely on standard XML semantic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scription should be a valid XML document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 not introduce additional semantic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(e.g. &lt;import-device id=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"…"/&gt;)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Use of standard XML tools (parser, XSLT) should be possibl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4617b"/>
                </a:solidFill>
                <a:latin typeface="Calibri"/>
                <a:ea typeface="Courier New"/>
              </a:rPr>
              <a:t>Identify unit of re-use and abstra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E8534-5FC7-497A-B48A-2D5AF5CFF340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D853D1-658F-47BB-8862-4E20F6071B94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Folded Corner 6"/>
          <p:cNvSpPr/>
          <p:nvPr/>
        </p:nvSpPr>
        <p:spPr>
          <a:xfrm rot="20923800">
            <a:off x="6581880" y="5409360"/>
            <a:ext cx="1981080" cy="725400"/>
          </a:xfrm>
          <a:prstGeom prst="foldedCorner">
            <a:avLst>
              <a:gd name="adj" fmla="val 19231"/>
            </a:avLst>
          </a:prstGeom>
          <a:gradFill rotWithShape="0">
            <a:gsLst>
              <a:gs pos="0">
                <a:srgbClr val="a6e3d1"/>
              </a:gs>
              <a:gs pos="100000">
                <a:srgbClr val="a6e3d1"/>
              </a:gs>
            </a:gsLst>
            <a:lin ang="6078000"/>
          </a:gradFill>
          <a:ln w="9360">
            <a:solidFill>
              <a:srgbClr val="a6e3d1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1200" spc="-1" strike="noStrike">
                <a:solidFill>
                  <a:srgbClr val="04617b"/>
                </a:solidFill>
                <a:latin typeface="Comic Sans MS"/>
                <a:ea typeface="Comic Sans MS"/>
              </a:rPr>
              <a:t>Not addressed: Standard dictionary for terms such as power, light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Namespace Declaratio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880" y="4191120"/>
            <a:ext cx="8382240" cy="12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 XM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Using some standard XML element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eeded for imports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1A0A89-10B1-44BB-B2AC-59DF9D1F6A0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DF91E-597F-47F4-94DE-D5C0FBC23A5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9"/>
          <p:cNvGrpSpPr/>
          <p:nvPr/>
        </p:nvGrpSpPr>
        <p:grpSpPr>
          <a:xfrm>
            <a:off x="457200" y="1752480"/>
            <a:ext cx="8272440" cy="1546560"/>
            <a:chOff x="457200" y="1752480"/>
            <a:chExt cx="8272440" cy="1546560"/>
          </a:xfrm>
        </p:grpSpPr>
        <p:sp>
          <p:nvSpPr>
            <p:cNvPr id="338" name="TextBox 5"/>
            <p:cNvSpPr/>
            <p:nvPr/>
          </p:nvSpPr>
          <p:spPr>
            <a:xfrm>
              <a:off x="457200" y="2017080"/>
              <a:ext cx="8272440" cy="1281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chema targetNamespace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:xs="http://www.w3.org/2001/XMLSchema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lementFormDefault="qualified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import namespace="http://www.w3.org/XML/1998/namespace" </a:t>
              </a:r>
              <a:br>
                <a:rPr sz="1300"/>
              </a:b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      schemaLocation="http://www.w3.org/2001/03/xml.xsd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Round Same Side Corner Rectangle 8"/>
            <p:cNvSpPr/>
            <p:nvPr/>
          </p:nvSpPr>
          <p:spPr>
            <a:xfrm>
              <a:off x="518760" y="175248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Import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0880" y="457164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Schema provides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Imports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ag for importing one or more </a:t>
            </a:r>
            <a:r>
              <a:rPr b="1" lang="de-DE" sz="2400" spc="-1" strike="noStrike">
                <a:solidFill>
                  <a:srgbClr val="04617b"/>
                </a:solidFill>
                <a:latin typeface="Calibri"/>
              </a:rPr>
              <a:t>Domain 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finition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ed Domain is part of document </a:t>
            </a:r>
            <a:r>
              <a:rPr b="0" lang="en-US" sz="2400" spc="-1" strike="noStrike">
                <a:solidFill>
                  <a:srgbClr val="04617b"/>
                </a:solidFill>
                <a:latin typeface="Calibri"/>
              </a:rPr>
              <a:t>–</a:t>
            </a: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 not merely a reference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FF661-4523-495D-9039-C092FD62A552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5342E-A5A6-4806-A587-1AF80A3C43AF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457200" y="1738440"/>
            <a:ext cx="8272440" cy="2734560"/>
            <a:chOff x="457200" y="1738440"/>
            <a:chExt cx="8272440" cy="2734560"/>
          </a:xfrm>
        </p:grpSpPr>
        <p:sp>
          <p:nvSpPr>
            <p:cNvPr id="345" name="TextBox 5"/>
            <p:cNvSpPr/>
            <p:nvPr/>
          </p:nvSpPr>
          <p:spPr>
            <a:xfrm>
              <a:off x="457200" y="2003040"/>
              <a:ext cx="8272440" cy="2469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group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ref="Imports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group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name="Imports"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s:element minOccurs="0" maxOccurs="unbounded" ref="Domain"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sequenc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complexType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xs:element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Ideally the descriptions build on standard defin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mains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7F0BAD-46A2-4355-8C42-3037D235E586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815E17-6082-4EBA-98A0-8D5308C5D4EC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9"/>
          <p:cNvGrpSpPr/>
          <p:nvPr/>
        </p:nvGrpSpPr>
        <p:grpSpPr>
          <a:xfrm>
            <a:off x="457200" y="1738440"/>
            <a:ext cx="5029200" cy="4357440"/>
            <a:chOff x="457200" y="1738440"/>
            <a:chExt cx="5029200" cy="4357440"/>
          </a:xfrm>
        </p:grpSpPr>
        <p:pic>
          <p:nvPicPr>
            <p:cNvPr id="352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41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Multiple device descriptions are collected in a </a:t>
            </a:r>
            <a:r>
              <a:rPr b="0" i="1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579640" y="1981080"/>
            <a:ext cx="3048120" cy="28209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main has a uniqu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d and consists of: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section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s section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tainin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ModuleClass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evices section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Content Placeholder 2"/>
          <p:cNvSpPr/>
          <p:nvPr/>
        </p:nvSpPr>
        <p:spPr>
          <a:xfrm>
            <a:off x="5580000" y="4952880"/>
            <a:ext cx="30481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xml:base tag needed for compatibility with xinclu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Example Domain Declar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0880" y="3733560"/>
            <a:ext cx="8382240" cy="23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7200" bIns="46800" anchor="t">
            <a:norm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efault namespace is bound to the HGI-DAL Schema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The Domain defines a unique i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 marL="355680" indent="-35568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mports are realised using standard XML includ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Namespace for XML Includes must also be declared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Domain documents can be included in the Imports section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  <a:p>
            <a:pPr lvl="2" marL="755640" indent="-355680">
              <a:lnSpc>
                <a:spcPct val="98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de-DE" sz="2000" spc="-1" strike="noStrike">
                <a:solidFill>
                  <a:srgbClr val="04617b"/>
                </a:solidFill>
                <a:latin typeface="Calibri"/>
              </a:rPr>
              <a:t>Modern standard XML tools are </a:t>
            </a:r>
            <a:r>
              <a:rPr b="0" i="1" lang="de-DE" sz="2000" spc="-1" strike="noStrike">
                <a:solidFill>
                  <a:srgbClr val="04617b"/>
                </a:solidFill>
                <a:latin typeface="Calibri"/>
              </a:rPr>
              <a:t>xinclude awar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9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56EC0-1C59-4F9E-AC13-921A4076AB31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58267-C538-4497-B8AE-A009533E741E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1" name="Group 9"/>
          <p:cNvGrpSpPr/>
          <p:nvPr/>
        </p:nvGrpSpPr>
        <p:grpSpPr>
          <a:xfrm>
            <a:off x="457200" y="1738440"/>
            <a:ext cx="8272440" cy="1942560"/>
            <a:chOff x="457200" y="1738440"/>
            <a:chExt cx="8272440" cy="1942560"/>
          </a:xfrm>
        </p:grpSpPr>
        <p:sp>
          <p:nvSpPr>
            <p:cNvPr id="362" name="TextBox 5"/>
            <p:cNvSpPr/>
            <p:nvPr/>
          </p:nvSpPr>
          <p:spPr>
            <a:xfrm>
              <a:off x="457200" y="2003040"/>
              <a:ext cx="8272440" cy="1677960"/>
            </a:xfrm>
            <a:prstGeom prst="rect">
              <a:avLst/>
            </a:prstGeom>
            <a:noFill/>
            <a:ln w="19080">
              <a:solidFill>
                <a:srgbClr val="0461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?xml version="1.0" encoding="iso-8859-1"?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Domain xmlns:xi="http://www.w3.org/2001/XInclude"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xmlns="http://hgi.org/xml/dal/1.0" 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	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d="com.telekom”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xi:include href=”http://hgi.org/dal-core.xml" parse="xml" /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&lt;/Imports&gt;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</a:t>
              </a:r>
              <a:r>
                <a:rPr b="0" lang="en-US" sz="13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..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Round Same Side Corner Rectangle 8"/>
            <p:cNvSpPr/>
            <p:nvPr/>
          </p:nvSpPr>
          <p:spPr>
            <a:xfrm>
              <a:off x="518760" y="1738440"/>
              <a:ext cx="129528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ocumen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Device Descriptions are XML Domain Doc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6120"/>
            <a:ext cx="836280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Calibri"/>
              </a:rPr>
              <a:t>Documentation</a:t>
            </a:r>
            <a:endParaRPr b="1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7885080" y="641664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1E93D-D0E0-417B-AD54-96F5CDF789CA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7885080" y="6432480"/>
            <a:ext cx="7970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7DE97-B6B0-4C4B-A8DB-EE4B45498BE3}" type="slidenum"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&lt;number&gt;</a:t>
            </a:fld>
            <a:r>
              <a:rPr b="1" lang="en-CA" sz="2000" spc="-1" strike="noStrike">
                <a:solidFill>
                  <a:srgbClr val="04617b"/>
                </a:solidFill>
                <a:latin typeface="Arial"/>
                <a:ea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9"/>
          <p:cNvGrpSpPr/>
          <p:nvPr/>
        </p:nvGrpSpPr>
        <p:grpSpPr>
          <a:xfrm>
            <a:off x="457200" y="1738440"/>
            <a:ext cx="5029200" cy="3957480"/>
            <a:chOff x="457200" y="1738440"/>
            <a:chExt cx="5029200" cy="3957480"/>
          </a:xfrm>
        </p:grpSpPr>
        <p:pic>
          <p:nvPicPr>
            <p:cNvPr id="369" name="TextBox 5" descr=""/>
            <p:cNvPicPr/>
            <p:nvPr/>
          </p:nvPicPr>
          <p:blipFill>
            <a:blip r:embed="rId2"/>
            <a:stretch/>
          </p:blipFill>
          <p:spPr>
            <a:xfrm>
              <a:off x="457200" y="1986120"/>
              <a:ext cx="5029200" cy="370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Round Same Side Corner Rectangle 8"/>
            <p:cNvSpPr/>
            <p:nvPr/>
          </p:nvSpPr>
          <p:spPr>
            <a:xfrm>
              <a:off x="536760" y="1738440"/>
              <a:ext cx="1285920" cy="273240"/>
            </a:xfrm>
            <a:prstGeom prst="pie">
              <a:avLst/>
            </a:prstGeom>
            <a:solidFill>
              <a:srgbClr val="0461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46800" anchor="t">
              <a:sp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Schem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Content Placeholder 2"/>
          <p:cNvSpPr/>
          <p:nvPr/>
        </p:nvSpPr>
        <p:spPr>
          <a:xfrm>
            <a:off x="457200" y="1219320"/>
            <a:ext cx="838188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46800" anchor="t">
            <a:spAutoFit/>
          </a:bodyPr>
          <a:p>
            <a:pPr lvl="1" marL="355680" indent="-355680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Small HTML-style tag-set for documenting the defin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579640" y="1981080"/>
            <a:ext cx="3048120" cy="31053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7200" bIns="46800" anchor="t">
            <a:normAutofit/>
          </a:bodyPr>
          <a:p>
            <a:pPr lvl="1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onsists of paragraphs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and images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DocText gro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rovides mark-up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for emphasis etc.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  <a:p>
            <a:pPr lvl="1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If there is only one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paragraph the tag</a:t>
            </a:r>
            <a:br>
              <a:rPr sz="2400"/>
            </a:br>
            <a:r>
              <a:rPr b="0" lang="de-DE" sz="2400" spc="-1" strike="noStrike">
                <a:solidFill>
                  <a:srgbClr val="04617b"/>
                </a:solidFill>
                <a:latin typeface="Calibri"/>
              </a:rPr>
              <a:t>can be omitted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1T09:54:16Z</dcterms:created>
  <dc:creator>cb, hwb</dc:creator>
  <dc:description/>
  <dc:language>en-US</dc:language>
  <cp:lastModifiedBy>ANDREAS SAYEGH</cp:lastModifiedBy>
  <cp:lastPrinted>2000-03-02T16:25:29Z</cp:lastPrinted>
  <dcterms:modified xsi:type="dcterms:W3CDTF">2013-12-11T10:59:24Z</dcterms:modified>
  <cp:revision>394</cp:revision>
  <dc:subject/>
  <dc:title>Board Strategy Meeting HGI - SWEX</dc:title>
</cp:coreProperties>
</file>