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</p:sldIdLst>
  <p:sldSz cx="9144000" cy="6858000"/>
  <p:notesSz cx="6883400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D368D8-3340-4016-A0DB-7AAAEBA99C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F67B4E-6E0A-453E-9A90-923C7D35C7E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7F1B87-236E-4F4F-9C10-3412CC30F6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E334AF-5B11-4225-981C-BBC347531A6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101BA2-071D-4BFA-8A1D-A45015BA7BA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836257-45E7-456E-8E85-8F076BFEAB0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01920D-697C-471C-B9CB-D47F52F7A74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2A8734-1ADD-4FDA-8DEB-5E7A3E73A70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F63FFB-C797-4BDE-9CA1-410A14CD982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715CFB-4C6C-40FC-AACB-5EFCF2AC0B3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87DCB2-D2CF-43A3-8332-EFE8CA685AC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A5CA96-D3F8-4A87-8B44-C55F50B4B30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8D4957-B089-4D30-9965-770E8F039DC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85ACF5-CEB0-4DA4-BCDB-E017A412956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C3DB18-83FC-4691-A7C1-63E4234D6BD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85D02D-3399-42FA-9AC4-7AC4D7C3C99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487B95-30BC-4C06-90FA-3C9D63C20774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69FA0-C11F-40D0-96FB-735B3B45D0C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E6E1A-9F92-4C39-80BF-D54C4A76DD6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41836-0182-4C33-B400-FDFC274D941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1AA25-6A77-44F6-A1C7-988CA00D389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A9F69-2475-4108-A4D4-709C06AFE41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964EFB-6C60-4B09-9DD2-A46BF8EF73C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ED55B-BE67-4E8C-870A-FC93837CB5A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6B59E-7333-46C5-81D4-7F2E922981E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64040-1B04-40D4-B2D2-6FC0A719C70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65889-F31F-4DD2-8E00-C430B4C964C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24AAB-2364-4D88-A5FC-88CE350464B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6E79B-9264-48C8-9DBD-A0CF212870F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ADDB0-70CE-414F-B1CC-660065E330F6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FC5CCB-E994-4FB0-BFB5-4DFF68F6834A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1688B7-879E-4038-9296-BAAD8B9EBE39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9EBA11-6BEC-4BB1-9481-E58CAF79088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F3BEF7-E6E4-4108-A8AC-1F5370E14B7E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0C25E1-9E51-4709-8221-B624B2FC71E8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2A1E4C-E515-42D9-A50F-424E94C6BE1E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15AF7E-D28A-4E7C-8D6D-CE75731061D1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4AD9D9-DBB9-40DE-AA74-81F68C7373E2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5318BF-5BC2-4C51-854D-C967BA26CF63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328F48-CB92-48D7-8957-40810499341A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A85CBC-901A-4916-9B46-FCA5FC2AE8C4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DEA164-449D-4412-9C28-3947C2B479C3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5C4941-DD5B-4B2F-8B41-3BBD0DCBBA20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5F3614-2267-4773-A1A5-0239D25AE4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9C6E96-98EB-4221-BD05-24A5C70DBA10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0A7A6F-BA5A-456C-BB51-1FA3FA4BBD80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15D1C3-D03E-4A1A-B0A4-1D6FDF27F893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4F7797-51BC-44C8-970A-308CA1928A26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B2531E-C2AD-40A0-B38E-F0904A648AB1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BF3377-4593-40DB-8D67-896D42DDE617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1D68CD-813E-41D6-8EDD-A14FB0F9CADC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530F65-ACE1-46EA-9E57-0A2A443F5494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ADA5D8-DC24-4357-8BD7-98734A412CB6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0C2BC6-B4D5-49EC-9386-2D78A1372131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A9AD42-A03F-43B9-9EF2-AAC6AA1E26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583C61-2AB9-44A4-BA32-F8D4908D28A1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6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44029A-539F-4CD5-9B7E-467B35D4DA80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C1610-CE4A-486C-91A6-636E4D0AA43D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B0ECD-5C6C-4C0F-86D3-255D9CA8BD36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CC9B7-155B-4D50-BD27-4D1D5B5FDEC3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16E82-4244-40ED-A6F0-3EA64052CA2C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D173B-5F5B-4945-B81F-1398A4C54600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5720C-ECE0-40C5-A9CD-C3F7CA42756B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96EDE-1C8E-461E-8BA2-BEF5FB9C3F15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30428-4B00-4A6E-823F-2DBE4B4C6A18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1AD53-5356-4910-8F0E-BC278BD7386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EAB6AD-F74B-4686-A165-ADE47C19EF62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BB9DD-4261-40B0-A862-AFC34E18537D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EC2FA-DD29-432A-A647-C7BE395EBE7B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F58CD-D4D1-4453-85A5-A6291AAA35CD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8149117-EB37-4AE3-8D6D-B1F7CDC6DE9B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A40933C-E7EA-4920-94F7-76B9C46BB666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C62FFD3-5939-4202-B2A5-71F842E4ED43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A3ECB4B-708E-413B-86F9-4D58FA12150B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9FA0D34-CA09-4C71-BAE2-4FFED0FD70D0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3B06110-42DE-4EFB-BE0E-CA89BB643AF7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B22D0A6-353F-42E4-8EDC-AF968AE227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9C9119-D3EC-4D48-8D70-FC9BBC7413D2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EE4D88A-7407-4274-A632-BB071BD3F4A5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E6C12C2-5D6F-4DB1-8EBF-4086A178B5D4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BDAB8D4-2E4B-4DFD-8DA0-2081586EA677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497947B-53E8-46E6-9FE5-A94B60BFECFC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2CC3207-AD8A-4830-87C9-3712326BA3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E608BA-C1B9-4C23-AF7C-3609C73D0AC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99D7D2A-A127-40B0-BF65-00219D0BC532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8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50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Picture 10" descr=""/>
          <p:cNvPicPr/>
          <p:nvPr/>
        </p:nvPicPr>
        <p:blipFill>
          <a:blip r:embed="rId4"/>
          <a:stretch/>
        </p:blipFill>
        <p:spPr>
          <a:xfrm>
            <a:off x="0" y="4280040"/>
            <a:ext cx="9144000" cy="25686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1" descr=""/>
          <p:cNvPicPr/>
          <p:nvPr/>
        </p:nvPicPr>
        <p:blipFill>
          <a:blip r:embed="rId5"/>
          <a:srcRect l="0" t="0" r="20736" b="-9021"/>
          <a:stretch/>
        </p:blipFill>
        <p:spPr>
          <a:xfrm>
            <a:off x="108000" y="6308640"/>
            <a:ext cx="887400" cy="4590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sldNum" idx="2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6785553-611D-4F09-A02C-BE575F0BDBEB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97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Num" idx="3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034B61E-454D-469D-BF85-F0A40517E03D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142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Num" idx="4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D35E419-B270-458B-B39A-277FE195179E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6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187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sldNum" idx="5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26B203C-E857-4A11-BC63-6F2458C682A9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1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232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 type="sldNum" idx="6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517D954-7B4F-4BD7-8726-A613555EE6C4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6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277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 type="sldNum" idx="7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1914595-B5AD-4A3F-AE60-C81685C8191F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821844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CA" sz="4000" spc="-1" strike="noStrike">
                <a:solidFill>
                  <a:srgbClr val="f2f2f2"/>
                </a:solidFill>
                <a:latin typeface="Calibri"/>
              </a:rPr>
              <a:t>DAL-XSD: XML schema proposal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68360" y="907920"/>
            <a:ext cx="8128080" cy="36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CA" sz="3200" spc="-1" strike="noStrike">
                <a:solidFill>
                  <a:srgbClr val="f2f2f2"/>
                </a:solidFill>
                <a:latin typeface="Calibri"/>
              </a:rPr>
              <a:t>Date: 2013-12-11</a:t>
            </a:r>
            <a:br>
              <a:rPr sz="3200"/>
            </a:br>
            <a:r>
              <a:rPr b="0" lang="en-CA" sz="3200" spc="-1" strike="noStrike">
                <a:solidFill>
                  <a:srgbClr val="f2f2f2"/>
                </a:solidFill>
                <a:latin typeface="Calibri"/>
              </a:rPr>
              <a:t>DMS#: </a:t>
            </a:r>
            <a:br>
              <a:rPr sz="3200"/>
            </a:br>
            <a:r>
              <a:rPr b="0" lang="en-CA" sz="3200" spc="-1" strike="noStrike">
                <a:solidFill>
                  <a:srgbClr val="f2f2f2"/>
                </a:solidFill>
                <a:latin typeface="Calibri"/>
              </a:rPr>
              <a:t>Author: Simon Merrall, Andreas Sayegh</a:t>
            </a:r>
            <a:br>
              <a:rPr sz="3200"/>
            </a:br>
            <a:r>
              <a:rPr b="0" lang="en-CA" sz="3200" spc="-1" strike="noStrike">
                <a:solidFill>
                  <a:srgbClr val="f2f2f2"/>
                </a:solidFill>
                <a:latin typeface="Calibri"/>
              </a:rPr>
              <a:t>Company: Deutsche Telekom</a:t>
            </a:r>
            <a:br>
              <a:rPr sz="3200"/>
            </a:br>
            <a:r>
              <a:rPr b="0" lang="en-CA" sz="3200" spc="-1" strike="noStrike">
                <a:solidFill>
                  <a:srgbClr val="f2f2f2"/>
                </a:solidFill>
                <a:latin typeface="Calibri"/>
              </a:rPr>
              <a:t>For working group: SHTF</a:t>
            </a:r>
            <a:br>
              <a:rPr sz="3200"/>
            </a:br>
            <a:r>
              <a:rPr b="0" lang="en-CA" sz="3200" spc="-1" strike="noStrike">
                <a:solidFill>
                  <a:srgbClr val="f2f2f2"/>
                </a:solidFill>
                <a:latin typeface="Calibri"/>
              </a:rPr>
              <a:t>For document: GWD042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9" name="Slide Number Placeholder 6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FE137A-5E6E-4124-B72B-F4632435D00E}" type="slidenum"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Domain Module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4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CD9FCD-7D64-4CED-81E8-9C1EA4EB07D2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88E3CD-52C5-4B2E-99C8-165E2A03857B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6" name="Group 9"/>
          <p:cNvGrpSpPr/>
          <p:nvPr/>
        </p:nvGrpSpPr>
        <p:grpSpPr>
          <a:xfrm>
            <a:off x="457200" y="1738440"/>
            <a:ext cx="5029200" cy="3757320"/>
            <a:chOff x="457200" y="1738440"/>
            <a:chExt cx="5029200" cy="3757320"/>
          </a:xfrm>
        </p:grpSpPr>
        <p:pic>
          <p:nvPicPr>
            <p:cNvPr id="377" name="TextBox 5" descr=""/>
            <p:cNvPicPr/>
            <p:nvPr/>
          </p:nvPicPr>
          <p:blipFill>
            <a:blip r:embed="rId2"/>
            <a:stretch/>
          </p:blipFill>
          <p:spPr>
            <a:xfrm>
              <a:off x="457200" y="1986120"/>
              <a:ext cx="5029200" cy="350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8" name="Round Same Side Corner Rectangle 8"/>
            <p:cNvSpPr/>
            <p:nvPr/>
          </p:nvSpPr>
          <p:spPr>
            <a:xfrm>
              <a:off x="536760" y="1738440"/>
              <a:ext cx="128592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9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Reusable elements are declared in the Modules se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5579640" y="1981080"/>
            <a:ext cx="312444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Class consists of: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Name </a:t>
            </a: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–</a:t>
            </a: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 unique in the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omai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Actions section 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Events sectio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an extend another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 referenced by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omain id (must be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included)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Class name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1" name="Folded Corner 13"/>
          <p:cNvSpPr/>
          <p:nvPr/>
        </p:nvSpPr>
        <p:spPr>
          <a:xfrm rot="1017600">
            <a:off x="3529800" y="5374080"/>
            <a:ext cx="1981440" cy="948240"/>
          </a:xfrm>
          <a:prstGeom prst="foldedCorner">
            <a:avLst>
              <a:gd name="adj" fmla="val 19231"/>
            </a:avLst>
          </a:prstGeom>
          <a:gradFill rotWithShape="0">
            <a:gsLst>
              <a:gs pos="0">
                <a:srgbClr val="a6e3d1"/>
              </a:gs>
              <a:gs pos="100000">
                <a:srgbClr val="a6e3d1"/>
              </a:gs>
            </a:gsLst>
            <a:lin ang="4380000"/>
          </a:gradFill>
          <a:ln w="9360">
            <a:solidFill>
              <a:srgbClr val="a6e3d1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200" spc="-1" strike="noStrike">
                <a:solidFill>
                  <a:srgbClr val="04617b"/>
                </a:solidFill>
                <a:latin typeface="Comic Sans MS"/>
                <a:ea typeface="Comic Sans MS"/>
              </a:rPr>
              <a:t>Do not use globally unique identifiers for module classes – Domain should act as a scop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Example Module Clas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3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69EBFE-5C83-4E67-B738-4CF3C13CE187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342538-D483-4C89-A750-4975DF4B0363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5" name="Group 9"/>
          <p:cNvGrpSpPr/>
          <p:nvPr/>
        </p:nvGrpSpPr>
        <p:grpSpPr>
          <a:xfrm>
            <a:off x="457200" y="1738440"/>
            <a:ext cx="5029200" cy="4318200"/>
            <a:chOff x="457200" y="1738440"/>
            <a:chExt cx="5029200" cy="4318200"/>
          </a:xfrm>
        </p:grpSpPr>
        <p:sp>
          <p:nvSpPr>
            <p:cNvPr id="386" name="TextBox 5"/>
            <p:cNvSpPr/>
            <p:nvPr/>
          </p:nvSpPr>
          <p:spPr>
            <a:xfrm>
              <a:off x="457200" y="2002680"/>
              <a:ext cx="5029200" cy="4053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ModuleClass name="BooleanState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oc&gt;…&lt;/Doc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 name="get" type="boolean"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&lt;Doc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Obtain the current associated state.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&lt;/Doc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Action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 name="setTarget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oc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Obtain the current associated state.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&lt;/Doc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rg name="value" type="boolean"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&lt;Doc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  Desired value of the associated state.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&lt;/Doc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&lt;/Arg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Action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Action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ModuleClas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Round Same Side Corner Rectangle 8"/>
            <p:cNvSpPr/>
            <p:nvPr/>
          </p:nvSpPr>
          <p:spPr>
            <a:xfrm>
              <a:off x="518760" y="1738440"/>
              <a:ext cx="1295280" cy="27360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Documen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88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BooleanState for modelling underlying binary st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5579640" y="1980720"/>
            <a:ext cx="30481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Provides operations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for reading and 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setting the state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Domain Device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1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EE8EFA-2BF3-45E3-8A16-D194DC5C927D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BC0176-24E9-4A20-A097-8A5FDFF35503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Group 9"/>
          <p:cNvGrpSpPr/>
          <p:nvPr/>
        </p:nvGrpSpPr>
        <p:grpSpPr>
          <a:xfrm>
            <a:off x="457200" y="1738440"/>
            <a:ext cx="5029200" cy="4557600"/>
            <a:chOff x="457200" y="1738440"/>
            <a:chExt cx="5029200" cy="4557600"/>
          </a:xfrm>
        </p:grpSpPr>
        <p:pic>
          <p:nvPicPr>
            <p:cNvPr id="394" name="TextBox 5" descr=""/>
            <p:cNvPicPr/>
            <p:nvPr/>
          </p:nvPicPr>
          <p:blipFill>
            <a:blip r:embed="rId2"/>
            <a:stretch/>
          </p:blipFill>
          <p:spPr>
            <a:xfrm>
              <a:off x="457200" y="1986480"/>
              <a:ext cx="5029200" cy="430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5" name="Round Same Side Corner Rectangle 8"/>
            <p:cNvSpPr/>
            <p:nvPr/>
          </p:nvSpPr>
          <p:spPr>
            <a:xfrm>
              <a:off x="536760" y="1738440"/>
              <a:ext cx="128592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96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Now have all the elements to define a devi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5579640" y="1980720"/>
            <a:ext cx="3124440" cy="348948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onsists of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Some meta-info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Vendor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Model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etc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s sectio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Contains Modules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Not ModuleClasses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Devices Module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9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D56353-719E-41A3-9AAF-2E2CEAB44CFA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ADFDA4-B74A-4AC4-9E15-7BDF00F87D5C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1" name="Group 9"/>
          <p:cNvGrpSpPr/>
          <p:nvPr/>
        </p:nvGrpSpPr>
        <p:grpSpPr>
          <a:xfrm>
            <a:off x="457200" y="1738440"/>
            <a:ext cx="5029200" cy="2140560"/>
            <a:chOff x="457200" y="1738440"/>
            <a:chExt cx="5029200" cy="2140560"/>
          </a:xfrm>
        </p:grpSpPr>
        <p:sp>
          <p:nvSpPr>
            <p:cNvPr id="402" name="TextBox 5"/>
            <p:cNvSpPr/>
            <p:nvPr/>
          </p:nvSpPr>
          <p:spPr>
            <a:xfrm>
              <a:off x="457200" y="2003040"/>
              <a:ext cx="5029200" cy="1875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element name="Modules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complexTyp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sequen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element minOccurs="0"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     maxOccurs="unbounded" ref="Module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sequen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complexTyp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element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element name="Module" type="ModuleDef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Round Same Side Corner Rectangle 8"/>
            <p:cNvSpPr/>
            <p:nvPr/>
          </p:nvSpPr>
          <p:spPr>
            <a:xfrm>
              <a:off x="518760" y="1738440"/>
              <a:ext cx="129528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4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Device Modules essentially the same a ModuleClas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5579640" y="1980720"/>
            <a:ext cx="31244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an extend a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Classe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annot be extended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6" name="Content Placeholder 2"/>
          <p:cNvSpPr/>
          <p:nvPr/>
        </p:nvSpPr>
        <p:spPr>
          <a:xfrm>
            <a:off x="380880" y="3962520"/>
            <a:ext cx="8382240" cy="21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  <a:ea typeface="Calibri"/>
              </a:rPr>
              <a:t>The ModuleClass is the unit of re-u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75564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  <a:ea typeface="Calibri"/>
              </a:rPr>
              <a:t>Hence the basis of abstra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  <a:ea typeface="Calibri"/>
              </a:rPr>
              <a:t>Device Modules can extend standard ModuleClas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  <a:ea typeface="Calibri"/>
              </a:rPr>
              <a:t>ModuleClasses can be imported from other domai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75564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  <a:ea typeface="Calibri"/>
              </a:rPr>
              <a:t>Modules cann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Example Device Module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8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B5F310-6912-464C-90AB-E3CDEAA219AC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3E50B1-D662-4013-8C6A-F53C67155671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10" name="Group 9"/>
          <p:cNvGrpSpPr/>
          <p:nvPr/>
        </p:nvGrpSpPr>
        <p:grpSpPr>
          <a:xfrm>
            <a:off x="457200" y="1738440"/>
            <a:ext cx="5029200" cy="2932560"/>
            <a:chOff x="457200" y="1738440"/>
            <a:chExt cx="5029200" cy="2932560"/>
          </a:xfrm>
        </p:grpSpPr>
        <p:sp>
          <p:nvSpPr>
            <p:cNvPr id="411" name="TextBox 5"/>
            <p:cNvSpPr/>
            <p:nvPr/>
          </p:nvSpPr>
          <p:spPr>
            <a:xfrm>
              <a:off x="457200" y="2003040"/>
              <a:ext cx="5029200" cy="2667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Module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Module name="proprietaryPower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 name="on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 name="off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 name="state" type="string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Actions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&lt;/Modul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Module name="power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extends domain="hgi.dal.core"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     class="BooleanState"/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&lt;/Modul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Module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Round Same Side Corner Rectangle 8"/>
            <p:cNvSpPr/>
            <p:nvPr/>
          </p:nvSpPr>
          <p:spPr>
            <a:xfrm>
              <a:off x="518760" y="1738440"/>
              <a:ext cx="129528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Documen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13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Power </a:t>
            </a:r>
            <a:r>
              <a:rPr b="0" lang="en-US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–</a:t>
            </a: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 candidate for BooleanSt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5579640" y="1981080"/>
            <a:ext cx="3048120" cy="28209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Vendor can define „inline“ proprietary module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Simpler </a:t>
            </a: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–</a:t>
            </a: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 reduces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efinition effort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But little abstractio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415" name="Content Placeholder 2" descr=""/>
          <p:cNvPicPr/>
          <p:nvPr/>
        </p:nvPicPr>
        <p:blipFill>
          <a:blip r:embed="rId2"/>
          <a:stretch/>
        </p:blipFill>
        <p:spPr>
          <a:xfrm>
            <a:off x="378000" y="4748040"/>
            <a:ext cx="8388000" cy="1231920"/>
          </a:xfrm>
          <a:prstGeom prst="rect">
            <a:avLst/>
          </a:prstGeom>
          <a:ln w="0">
            <a:noFill/>
          </a:ln>
        </p:spPr>
      </p:pic>
      <p:sp>
        <p:nvSpPr>
          <p:cNvPr id="416" name="Folded Corner 11"/>
          <p:cNvSpPr/>
          <p:nvPr/>
        </p:nvSpPr>
        <p:spPr>
          <a:xfrm rot="20923800">
            <a:off x="6603840" y="5519520"/>
            <a:ext cx="1981080" cy="725400"/>
          </a:xfrm>
          <a:prstGeom prst="foldedCorner">
            <a:avLst>
              <a:gd name="adj" fmla="val 19231"/>
            </a:avLst>
          </a:prstGeom>
          <a:gradFill rotWithShape="0">
            <a:gsLst>
              <a:gs pos="0">
                <a:srgbClr val="a6e3d1"/>
              </a:gs>
              <a:gs pos="100000">
                <a:srgbClr val="a6e3d1"/>
              </a:gs>
            </a:gsLst>
            <a:lin ang="6078000"/>
          </a:gradFill>
          <a:ln w="9360">
            <a:solidFill>
              <a:srgbClr val="a6e3d1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200" spc="-1" strike="noStrike">
                <a:solidFill>
                  <a:srgbClr val="04617b"/>
                </a:solidFill>
                <a:latin typeface="Comic Sans MS"/>
                <a:ea typeface="Comic Sans MS"/>
              </a:rPr>
              <a:t>Only need hgi-core domain to use power modu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Example Device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8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EEBE34-39D3-408C-A04F-F298D9AFDC4C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AC1F25-ECBB-4374-BD56-6A89C4A96EF6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0" name="Group 9"/>
          <p:cNvGrpSpPr/>
          <p:nvPr/>
        </p:nvGrpSpPr>
        <p:grpSpPr>
          <a:xfrm>
            <a:off x="457200" y="1738440"/>
            <a:ext cx="5029200" cy="4318200"/>
            <a:chOff x="457200" y="1738440"/>
            <a:chExt cx="5029200" cy="4318200"/>
          </a:xfrm>
        </p:grpSpPr>
        <p:sp>
          <p:nvSpPr>
            <p:cNvPr id="421" name="TextBox 5"/>
            <p:cNvSpPr/>
            <p:nvPr/>
          </p:nvSpPr>
          <p:spPr>
            <a:xfrm>
              <a:off x="457200" y="2002680"/>
              <a:ext cx="5029200" cy="4053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?xml version="1.0" encoding="iso-8859-1"?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omain xmlns="http://hgi.org/xml/dal/1.0"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xmlns:xi="http://www.w3.org/2001/XInclude"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id="com.telekom"&gt;  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&lt;Import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i:include parse="xml"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     href="http://hgi.org/dal-core.xml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Import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evice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evice id="switch.power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eviceInfo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Name&gt;PowerSwitch&lt;/Nam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Vendor&gt;Telekom Laboratories&lt;/Vendor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DeviceInfo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Module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i="1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</a:t>
              </a:r>
              <a:r>
                <a:rPr b="1" i="1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see previous slide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Module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Devi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Device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Domain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Round Same Side Corner Rectangle 8"/>
            <p:cNvSpPr/>
            <p:nvPr/>
          </p:nvSpPr>
          <p:spPr>
            <a:xfrm>
              <a:off x="518760" y="1738440"/>
              <a:ext cx="1295280" cy="27360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Documen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23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A device with a power switch defined by DTAG 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5579640" y="1981080"/>
            <a:ext cx="3048120" cy="31831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etails of device discovery to be determined, but device can be used by applications understanding: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power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BooleanState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Licensing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456840" y="1196640"/>
            <a:ext cx="8381880" cy="31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This is a contribution to GWD042, which is aimed to be published by HGI under royalty free license conditions (e. g. Apache License).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The author(s) hereby confirm their awareness that this contribution may become a part of an HGI publication under royalty free licensing.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4617b"/>
                </a:solidFill>
                <a:latin typeface="Calibri"/>
              </a:rPr>
              <a:t>Warning: Any further work on this contribution will also become part of a royalty free licensing.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2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E9670A-F3B1-4E05-B0D4-B47552D08C95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9C35C0-8520-4915-A23B-2BFD1620BAF6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Purpose &amp; Action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456840" y="1196640"/>
            <a:ext cx="838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This contribution proposes a draft for an XML schema that describes device type capabilitie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The schema encourages modular approach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We‘d like the HGI adopts the schema as a starting point and starts to work on its finalizatio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6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1E3984-5921-42F5-98BF-4692E36A3E77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3DB6EC-F4A6-4541-86EC-10E71E5F2360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Some Guiding Principle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456840" y="1197000"/>
            <a:ext cx="8381880" cy="387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evice description is in XML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Try to avoid becoming too complex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echanism for referencing other definitions required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Rely on standard XML semantic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escription should be a valid XML document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o not introduce additional semantics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(e.g. &lt;import-device id=</a:t>
            </a:r>
            <a:r>
              <a:rPr b="0" lang="en-US" sz="2400" spc="-1" strike="noStrike">
                <a:solidFill>
                  <a:srgbClr val="04617b"/>
                </a:solidFill>
                <a:latin typeface="Calibri"/>
                <a:ea typeface="Courier New"/>
              </a:rPr>
              <a:t>"…"/&gt;)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  <a:ea typeface="Courier New"/>
              </a:rPr>
              <a:t>Use of standard XML tools (parser, XSLT) should be possible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  <a:ea typeface="Courier New"/>
              </a:rPr>
              <a:t>Identify unit of re-use and abstractio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0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CE63CC-3E6F-4DDF-BF90-C404A9BF2DE2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44A941-EEE1-40D4-9462-7220900C3D35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Folded Corner 6"/>
          <p:cNvSpPr/>
          <p:nvPr/>
        </p:nvSpPr>
        <p:spPr>
          <a:xfrm rot="20923800">
            <a:off x="6581880" y="5409360"/>
            <a:ext cx="1981080" cy="725400"/>
          </a:xfrm>
          <a:prstGeom prst="foldedCorner">
            <a:avLst>
              <a:gd name="adj" fmla="val 19231"/>
            </a:avLst>
          </a:prstGeom>
          <a:gradFill rotWithShape="0">
            <a:gsLst>
              <a:gs pos="0">
                <a:srgbClr val="a6e3d1"/>
              </a:gs>
              <a:gs pos="100000">
                <a:srgbClr val="a6e3d1"/>
              </a:gs>
            </a:gsLst>
            <a:lin ang="6078000"/>
          </a:gradFill>
          <a:ln w="9360">
            <a:solidFill>
              <a:srgbClr val="a6e3d1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200" spc="-1" strike="noStrike">
                <a:solidFill>
                  <a:srgbClr val="04617b"/>
                </a:solidFill>
                <a:latin typeface="Comic Sans MS"/>
                <a:ea typeface="Comic Sans MS"/>
              </a:rPr>
              <a:t>Not addressed: Standard dictionary for terms such as power, light, etc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Namespace Declaration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380880" y="4191120"/>
            <a:ext cx="8382240" cy="123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An XML Schema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Using some standard XML element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Needed for imports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5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023D80-BECB-4A25-AD30-2A8ECFD3E75F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8ABD7B-1295-469E-BA72-DD29538A8D54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7" name="Group 9"/>
          <p:cNvGrpSpPr/>
          <p:nvPr/>
        </p:nvGrpSpPr>
        <p:grpSpPr>
          <a:xfrm>
            <a:off x="457200" y="1752480"/>
            <a:ext cx="8272440" cy="1546560"/>
            <a:chOff x="457200" y="1752480"/>
            <a:chExt cx="8272440" cy="1546560"/>
          </a:xfrm>
        </p:grpSpPr>
        <p:sp>
          <p:nvSpPr>
            <p:cNvPr id="338" name="TextBox 5"/>
            <p:cNvSpPr/>
            <p:nvPr/>
          </p:nvSpPr>
          <p:spPr>
            <a:xfrm>
              <a:off x="457200" y="2017080"/>
              <a:ext cx="8272440" cy="1281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schema targetNamespace="http://hgi.org/xml/dal/1.0" 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xmlns="http://hgi.org/xml/dal/1.0" 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xmlns:xs="http://www.w3.org/2001/XMLSchema" 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lementFormDefault="qualified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import namespace="http://www.w3.org/XML/1998/namespace" 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      schemaLocation="http://www.w3.org/2001/03/xml.xsd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Round Same Side Corner Rectangle 8"/>
            <p:cNvSpPr/>
            <p:nvPr/>
          </p:nvSpPr>
          <p:spPr>
            <a:xfrm>
              <a:off x="518760" y="1752480"/>
              <a:ext cx="129528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Import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80880" y="4571640"/>
            <a:ext cx="83822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Schema provides </a:t>
            </a:r>
            <a:r>
              <a:rPr b="1" lang="de-DE" sz="2400" spc="-1" strike="noStrike">
                <a:solidFill>
                  <a:srgbClr val="04617b"/>
                </a:solidFill>
                <a:latin typeface="Calibri"/>
              </a:rPr>
              <a:t>Imports </a:t>
            </a: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tag for importing one or more </a:t>
            </a:r>
            <a:r>
              <a:rPr b="1" lang="de-DE" sz="2400" spc="-1" strike="noStrike">
                <a:solidFill>
                  <a:srgbClr val="04617b"/>
                </a:solidFill>
                <a:latin typeface="Calibri"/>
              </a:rPr>
              <a:t>Domain </a:t>
            </a: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efinition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Imported Domain is part of document </a:t>
            </a: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–</a:t>
            </a: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 not merely a reference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2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9C78EF-7786-4289-99AA-83F881068606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ADC7E1-D40D-470B-B7BC-25C81F26E903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4" name="Group 9"/>
          <p:cNvGrpSpPr/>
          <p:nvPr/>
        </p:nvGrpSpPr>
        <p:grpSpPr>
          <a:xfrm>
            <a:off x="457200" y="1738440"/>
            <a:ext cx="8272440" cy="2734560"/>
            <a:chOff x="457200" y="1738440"/>
            <a:chExt cx="8272440" cy="2734560"/>
          </a:xfrm>
        </p:grpSpPr>
        <p:sp>
          <p:nvSpPr>
            <p:cNvPr id="345" name="TextBox 5"/>
            <p:cNvSpPr/>
            <p:nvPr/>
          </p:nvSpPr>
          <p:spPr>
            <a:xfrm>
              <a:off x="457200" y="2003040"/>
              <a:ext cx="8272440" cy="2469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group name="Imports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sequen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element minOccurs="0" ref="Imports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sequen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group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element name="Imports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complexTyp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sequen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element minOccurs="0" maxOccurs="unbounded" ref="Domain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sequen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complexTyp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element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Round Same Side Corner Rectangle 8"/>
            <p:cNvSpPr/>
            <p:nvPr/>
          </p:nvSpPr>
          <p:spPr>
            <a:xfrm>
              <a:off x="518760" y="1738440"/>
              <a:ext cx="129528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7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Ideally the descriptions build on standard defini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Domain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9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86D22E-0BA4-42FB-AEFF-6639A51844F1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5CFD6A-5A5B-46AF-892F-D8A735B10CBD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1" name="Group 9"/>
          <p:cNvGrpSpPr/>
          <p:nvPr/>
        </p:nvGrpSpPr>
        <p:grpSpPr>
          <a:xfrm>
            <a:off x="457200" y="1738440"/>
            <a:ext cx="5029200" cy="4357440"/>
            <a:chOff x="457200" y="1738440"/>
            <a:chExt cx="5029200" cy="4357440"/>
          </a:xfrm>
        </p:grpSpPr>
        <p:pic>
          <p:nvPicPr>
            <p:cNvPr id="352" name="TextBox 5" descr=""/>
            <p:cNvPicPr/>
            <p:nvPr/>
          </p:nvPicPr>
          <p:blipFill>
            <a:blip r:embed="rId2"/>
            <a:stretch/>
          </p:blipFill>
          <p:spPr>
            <a:xfrm>
              <a:off x="457200" y="1986120"/>
              <a:ext cx="5029200" cy="410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3" name="Round Same Side Corner Rectangle 8"/>
            <p:cNvSpPr/>
            <p:nvPr/>
          </p:nvSpPr>
          <p:spPr>
            <a:xfrm>
              <a:off x="536760" y="1738440"/>
              <a:ext cx="128592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4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Multiple device descriptions are collected in a </a:t>
            </a:r>
            <a:r>
              <a:rPr b="0" i="1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5579640" y="1981080"/>
            <a:ext cx="3048120" cy="28209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omain has a unique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id and consists of: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Imports section 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s section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ontaining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Classe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evices sectio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6" name="Content Placeholder 2"/>
          <p:cNvSpPr/>
          <p:nvPr/>
        </p:nvSpPr>
        <p:spPr>
          <a:xfrm>
            <a:off x="5580000" y="4952880"/>
            <a:ext cx="3048120" cy="11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xml:base tag needed for compatibility with xinclud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Example Domain Declaration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380880" y="3733560"/>
            <a:ext cx="8382240" cy="23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The default namespace is bound to the HGI-DAL Schema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The Domain defines a unique id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Imports are realised using standard XML include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Namespace for XML Includes must also be declared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Domain documents can be included in the Imports section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Modern standard XML tools are </a:t>
            </a:r>
            <a:r>
              <a:rPr b="0" i="1" lang="de-DE" sz="2000" spc="-1" strike="noStrike">
                <a:solidFill>
                  <a:srgbClr val="04617b"/>
                </a:solidFill>
                <a:latin typeface="Calibri"/>
              </a:rPr>
              <a:t>xinclude aware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9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94BF3B-4366-4BF6-91F9-B143B8D17210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9BA237-BA82-4330-BB12-20C916C328AB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1" name="Group 9"/>
          <p:cNvGrpSpPr/>
          <p:nvPr/>
        </p:nvGrpSpPr>
        <p:grpSpPr>
          <a:xfrm>
            <a:off x="457200" y="1738440"/>
            <a:ext cx="8272440" cy="1942560"/>
            <a:chOff x="457200" y="1738440"/>
            <a:chExt cx="8272440" cy="1942560"/>
          </a:xfrm>
        </p:grpSpPr>
        <p:sp>
          <p:nvSpPr>
            <p:cNvPr id="362" name="TextBox 5"/>
            <p:cNvSpPr/>
            <p:nvPr/>
          </p:nvSpPr>
          <p:spPr>
            <a:xfrm>
              <a:off x="457200" y="2003040"/>
              <a:ext cx="8272440" cy="1677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?xml version="1.0" encoding="iso-8859-1"?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omain xmlns:xi="http://www.w3.org/2001/XInclude"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xmlns="http://hgi.org/xml/dal/1.0" 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d="com.telekom”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Import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i:include href=”http://hgi.org/dal-core.xml" parse="xml" 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Import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...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Round Same Side Corner Rectangle 8"/>
            <p:cNvSpPr/>
            <p:nvPr/>
          </p:nvSpPr>
          <p:spPr>
            <a:xfrm>
              <a:off x="518760" y="1738440"/>
              <a:ext cx="129528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Documen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64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Device Descriptions are XML Domain Doc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Documentation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6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A0BEA2-672A-4F8A-B731-AF448B4B4211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3DC866-48BC-48DB-A371-B30AE9AC0121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8" name="Group 9"/>
          <p:cNvGrpSpPr/>
          <p:nvPr/>
        </p:nvGrpSpPr>
        <p:grpSpPr>
          <a:xfrm>
            <a:off x="457200" y="1738440"/>
            <a:ext cx="5029200" cy="3957480"/>
            <a:chOff x="457200" y="1738440"/>
            <a:chExt cx="5029200" cy="3957480"/>
          </a:xfrm>
        </p:grpSpPr>
        <p:pic>
          <p:nvPicPr>
            <p:cNvPr id="369" name="TextBox 5" descr=""/>
            <p:cNvPicPr/>
            <p:nvPr/>
          </p:nvPicPr>
          <p:blipFill>
            <a:blip r:embed="rId2"/>
            <a:stretch/>
          </p:blipFill>
          <p:spPr>
            <a:xfrm>
              <a:off x="457200" y="1986120"/>
              <a:ext cx="5029200" cy="370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0" name="Round Same Side Corner Rectangle 8"/>
            <p:cNvSpPr/>
            <p:nvPr/>
          </p:nvSpPr>
          <p:spPr>
            <a:xfrm>
              <a:off x="536760" y="1738440"/>
              <a:ext cx="128592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1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Small HTML-style tag-set for documenting the defin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5579640" y="1981080"/>
            <a:ext cx="3048120" cy="31053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onsists of paragraphs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and image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ocText group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provides mark-up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for emphasis etc.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If there is only one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paragraph the tag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an be omitted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11T09:54:16Z</dcterms:created>
  <dc:creator>cb, hwb</dc:creator>
  <dc:description/>
  <dc:language>en-US</dc:language>
  <cp:lastModifiedBy>ANDREAS SAYEGH</cp:lastModifiedBy>
  <cp:lastPrinted>2000-03-02T16:25:29Z</cp:lastPrinted>
  <dcterms:modified xsi:type="dcterms:W3CDTF">2013-12-11T10:59:24Z</dcterms:modified>
  <cp:revision>394</cp:revision>
  <dc:subject/>
  <dc:title>Board Strategy Meeting HGI - SWEX</dc:title>
</cp:coreProperties>
</file>