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83400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2B50A-4EAE-4AFB-A813-F3F08872D7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D2069-BEC8-4391-B704-C4ACD67325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FB95E-22D9-4BDF-AFE7-1461774662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6A8E6-3E3B-4A4E-A190-78D67D3E42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8D234-3C3D-47A2-9E1D-FC8A3D8E023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9AD0A-031E-4568-8DC1-6376316E251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D8F0A-5EEA-430A-9118-5CF3683CEED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BC23E-85DB-40C8-9DBC-81D6D7B505F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BF588-55D3-48D3-BC82-2A8543895CC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EF9CC-D107-4C5A-A350-70E784F4179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52581-5C22-4D66-A88E-291AC30FA8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578E3-3E4C-4928-9B56-EB66BA9828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BC5BB-7547-4B04-A4EA-7BBE349B6F1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F28DB-22D7-4B4D-8D57-E56B046CBC4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14FFC-3F88-469C-A815-F13AF149FFF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A9E4A-8EB7-4A4F-BEDF-1051E7661A3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0DBDC-4ED6-4212-9629-C49CB26FFBB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F2F4-1A49-457D-98A4-0CB0BA6038A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F479-040E-4694-80F0-B589766ECD6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FEAE-3235-41FC-9BD4-45DA1FF254C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B8E7-6097-49A6-A78F-24DD4B786F8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9369-6AC0-4406-A2E3-9725A35D8B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34803-CF04-49A5-BA25-AFB2CEEE84A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68FB-7F0C-449A-865B-84214FFC06F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9F4A-2C50-45A9-9973-8ABFE795C45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4977-186B-4B9C-9DA6-CE953436381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6A88-C238-4CC0-903B-83138691DD4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E409-D3BA-4F89-8840-4845598AD46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F72F-5B3B-48FC-9763-06E61EE49A6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79A8-9C81-4C15-A4AB-7622B8F7D7C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AAC5C8-7B0B-401B-9A48-DB7710D48DA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16C933-C5CE-477A-8C0C-16725E6B104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9BAEE1-AD8C-421B-8B0E-A7AA4F1CAD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C7133-3B18-43F5-A2F7-C05B9BB2A40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D48C7E-EE56-4828-A761-B2994548660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8C2801-BA36-4EAA-A94F-0353B8EF2F2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04E215-C691-422A-9951-12C0D1C0A92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1C4B0C-FF55-4AF4-8392-0C345B48126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6E11FA-1F8F-402D-89C4-5AC35D9DB0A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20E0ED-B4C0-4EA1-9F06-5834BE2C746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533D62-B35F-4C3C-BC25-133FBC5EAB2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90EC36-D42E-46D1-9598-8BB0A3A8309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F0E339-E46C-43C7-B338-35C5F3FAC7E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51AE28-AC52-483F-AB64-7611348F06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29C4A-08A7-43E4-8D12-C4F19D94C83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71BE69-A4B7-4F64-AEA8-8179C67BF0E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22775C-CE57-4423-BA70-5D08BB3C58E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A7BEF4-1A69-4A2C-8132-6CE86E6BC0C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4FBAA7-5F30-45E7-BF0F-FC84886C7A2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B1DE7D-A5B8-4C3D-B90C-6F367741849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375BDA-99A8-44A0-94D7-3FC08D502D4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7AA6C0-1496-4AC4-9F08-1804E025092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A9F52C-7DAA-4A22-995A-CEC2F773BFD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B62C37-36AF-4981-927A-5C514DC2076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E3CC9A-75FF-415E-A2EA-28A58918F3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977F8-897D-460A-84F0-72E62182A16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D56A9F-638D-481A-B2A6-927085883ED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3596A-7019-4DC0-A491-8946F2893E1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C378B-B55D-4247-A0F8-6FCB17AE76A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0A859-1329-4017-8C78-507695A9561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AB65C-2C85-4B96-A829-524F154636F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C8FA6-3FAE-4B6F-8FAD-2498BEBCC27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9BC64-813F-4DC4-AF42-C5A0B6F14F7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55B26-D6C9-4A3C-8CD8-83935948E40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5F65F-18E9-4982-AC3F-52B8E2B4B04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8954D-33D5-4029-83D1-ABFBA2FDDE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1A497-285B-4C29-A975-99250C3FCFB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DE44F-8FB8-48AA-AFD7-5A4B9EA2787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C5387-78B2-4296-A6B2-C2CD4D1B172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92B91-9308-477F-871C-2D09CD1DB53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558C1A-6895-44E3-B7FA-A4CB8FBF181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D7DE36-CD16-440C-B654-53CDDB2DDB5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D56E70-2D2B-4A0E-AF4E-DEE1A762C13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2A1670-0344-41A2-8BC5-CA8B1F66369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2624E4-01DB-484F-A4BA-6A593B728DD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109A19-49C1-48D3-8CCA-84E8DE0A0F5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C43C28-FBC1-459E-8BC7-117D3E63F3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0B05E-AFA1-453E-98D5-4C27431A27A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8E7F1A-97D9-43C3-80B3-275E0AAF209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2FDB66-040D-4B85-A0EF-38EAF3E8D02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BA7207-B245-4814-96FF-74583590E08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924653-DD13-4F59-8089-5EB5A16FC7C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8F38FD-C3EC-4962-A8DC-C4412D5EA7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422B9-67CB-4239-B763-9F7C180DE9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4BF5D36-6CA8-4FBF-BFFE-F44C4545C928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8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50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0" y="4280040"/>
            <a:ext cx="9144000" cy="256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5"/>
          <a:srcRect l="0" t="0" r="20736" b="-9021"/>
          <a:stretch/>
        </p:blipFill>
        <p:spPr>
          <a:xfrm>
            <a:off x="108000" y="6308640"/>
            <a:ext cx="887400" cy="459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B0FB4A5-D304-4006-89DD-4812E7D251EA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9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F6B74CD-5E5B-4B47-8EA3-467A5D1766BF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4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D6EF528-97F0-47D1-8716-BC77AD380E54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8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5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5C3B574-F06F-41EE-9EAC-E4B2F5236B50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3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6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B3E69B2-5D05-4678-A280-631182514371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7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7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50DF244-F5AB-4DDD-8140-F66408D9DDD2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CA" sz="4000" spc="-1" strike="noStrike">
                <a:solidFill>
                  <a:srgbClr val="f2f2f2"/>
                </a:solidFill>
                <a:latin typeface="Calibri"/>
              </a:rPr>
              <a:t>DAL-XSD: XML schema proposal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68360" y="907920"/>
            <a:ext cx="8128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ate: 2013-12-11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MS#: 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Author: Simon Merrall, Andreas Sayegh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Company: Deutsche Telekom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working group: SHTF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document: GWD04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Slide Number Placeholder 6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82573D-7DBF-4D07-B9E1-9EC49C1E7074}" type="slidenum"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F24147-04EB-406D-9589-53114DD1CDA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77BCBD-CA3B-4F8E-9643-07A18C91DA7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9"/>
          <p:cNvGrpSpPr/>
          <p:nvPr/>
        </p:nvGrpSpPr>
        <p:grpSpPr>
          <a:xfrm>
            <a:off x="457200" y="1738440"/>
            <a:ext cx="5029200" cy="3757320"/>
            <a:chOff x="457200" y="1738440"/>
            <a:chExt cx="5029200" cy="3757320"/>
          </a:xfrm>
        </p:grpSpPr>
        <p:pic>
          <p:nvPicPr>
            <p:cNvPr id="377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5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Reusable elements are declared in the Modules 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579640" y="1981080"/>
            <a:ext cx="31244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Name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unique in th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ction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Event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nother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 referenced by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id (must b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ncluded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nam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Folded Corner 13"/>
          <p:cNvSpPr/>
          <p:nvPr/>
        </p:nvSpPr>
        <p:spPr>
          <a:xfrm rot="1017600">
            <a:off x="3529800" y="5374080"/>
            <a:ext cx="1981440" cy="94824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4380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Do not use globally unique identifiers for module classes – Domain should act as a scop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Module Clas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166856-2748-4DFF-B80D-67E2FE32ECB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563CD4-3E76-478B-8128-438D8180720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386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Class name="BooleanState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…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get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etTarget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rg name="value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Desired value of the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/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Arg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Clas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BooleanState for modelling underlying binary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579640" y="1980720"/>
            <a:ext cx="30481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operation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reading and 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etting the 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Devic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CF9AB3-0216-467F-9724-4922B0A20E6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A28E3F-3524-45B1-8735-59271F7EEE7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Group 9"/>
          <p:cNvGrpSpPr/>
          <p:nvPr/>
        </p:nvGrpSpPr>
        <p:grpSpPr>
          <a:xfrm>
            <a:off x="457200" y="1738440"/>
            <a:ext cx="5029200" cy="4557600"/>
            <a:chOff x="457200" y="1738440"/>
            <a:chExt cx="5029200" cy="4557600"/>
          </a:xfrm>
        </p:grpSpPr>
        <p:pic>
          <p:nvPicPr>
            <p:cNvPr id="394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480"/>
              <a:ext cx="5029200" cy="43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Now have all the elements to define a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579640" y="1980720"/>
            <a:ext cx="312444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ome meta-info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Vendor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l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etc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Contains Modul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ot ModuleClass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evices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D8E7A5-9895-4B52-B83F-9F634ED6272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AF235E-3BAA-4D7C-92A8-FCEB13BD0D6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9"/>
          <p:cNvGrpSpPr/>
          <p:nvPr/>
        </p:nvGrpSpPr>
        <p:grpSpPr>
          <a:xfrm>
            <a:off x="457200" y="1738440"/>
            <a:ext cx="5029200" cy="2140560"/>
            <a:chOff x="457200" y="1738440"/>
            <a:chExt cx="5029200" cy="2140560"/>
          </a:xfrm>
        </p:grpSpPr>
        <p:sp>
          <p:nvSpPr>
            <p:cNvPr id="402" name="TextBox 5"/>
            <p:cNvSpPr/>
            <p:nvPr/>
          </p:nvSpPr>
          <p:spPr>
            <a:xfrm>
              <a:off x="457200" y="2003040"/>
              <a:ext cx="5029200" cy="1875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maxOccurs="unbounded" ref="Module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" type="ModuleDe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Modules essentially the same a Module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579640" y="1980720"/>
            <a:ext cx="3124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not be extend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Content Placeholder 2"/>
          <p:cNvSpPr/>
          <p:nvPr/>
        </p:nvSpPr>
        <p:spPr>
          <a:xfrm>
            <a:off x="380880" y="3962520"/>
            <a:ext cx="838224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The ModuleClass is the unit of re-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Hence the basis of abst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Device Modules can extend standard Module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Classes can be imported from other dom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s can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FB9CA2-293D-4DB3-9F71-83BC4EEFA0C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2FC3C0-AB3B-4AF3-8B3B-92E4F015F90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57200" y="1738440"/>
            <a:ext cx="5029200" cy="2932560"/>
            <a:chOff x="457200" y="1738440"/>
            <a:chExt cx="5029200" cy="2932560"/>
          </a:xfrm>
        </p:grpSpPr>
        <p:sp>
          <p:nvSpPr>
            <p:cNvPr id="411" name="TextBox 5"/>
            <p:cNvSpPr/>
            <p:nvPr/>
          </p:nvSpPr>
          <p:spPr>
            <a:xfrm>
              <a:off x="457200" y="2003040"/>
              <a:ext cx="5029200" cy="266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roprietary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f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tate" type="string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extends domain="hgi.dal.cor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class="BooleanState"/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Power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–</a:t>
            </a: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candidate for Boolean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Vendor can define „inline“ proprietary modul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impler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reduce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 effor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ut little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5" name="Content Placeholder 2" descr=""/>
          <p:cNvPicPr/>
          <p:nvPr/>
        </p:nvPicPr>
        <p:blipFill>
          <a:blip r:embed="rId2"/>
          <a:stretch/>
        </p:blipFill>
        <p:spPr>
          <a:xfrm>
            <a:off x="378000" y="4748040"/>
            <a:ext cx="8388000" cy="1231920"/>
          </a:xfrm>
          <a:prstGeom prst="rect">
            <a:avLst/>
          </a:prstGeom>
          <a:ln w="0">
            <a:noFill/>
          </a:ln>
        </p:spPr>
      </p:pic>
      <p:sp>
        <p:nvSpPr>
          <p:cNvPr id="416" name="Folded Corner 11"/>
          <p:cNvSpPr/>
          <p:nvPr/>
        </p:nvSpPr>
        <p:spPr>
          <a:xfrm rot="20923800">
            <a:off x="6603840" y="551952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Only need hgi-core domain to use power modu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B88994-70FB-4E9B-A5ED-5D7FDB10405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A267EA-40EA-47B3-AD9B-E9F80E5A3BF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421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="http://hgi.org/xml/dal/1.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xmlns:xi="http://www.w3.org/2001/XInclud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id="com.telekom"&gt; 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parse="xml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href="http://hgi.org/dal-core.xml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 id="switch.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Name&gt;PowerSwitch&lt;/Nam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Vendor&gt;Telekom Laboratories&lt;/Vendor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e previous slid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omai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A device with a power switch defined by DTAG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5579640" y="1981080"/>
            <a:ext cx="3048120" cy="3183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tails of device discovery to be determined, but device can be used by applications understanding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ower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oolean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Licensing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1196640"/>
            <a:ext cx="8381880" cy="31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is a contribution to GWD042, which is aimed to be published by HGI under royalty free license conditions (e. g. Apache License)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author(s) hereby confirm their awareness that this contribution may become a part of an HGI publication under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Warning: Any further work on this contribution will also become part of a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2E44AB-4870-496F-BDC2-9F6C4CA6BF4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CFCCDF-B938-4AB3-AB98-DB34F74F026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Purpose &amp; Ac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196640"/>
            <a:ext cx="838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contribution proposes a draft for an XML schema that describes device type capabiliti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schema encourages modular approach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We‘d like the HGI adopts the schema as a starting point and starts to work on its finaliza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ACEB4C-5FBB-41ED-BAC2-3C2FCBA1070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9C7613-46CE-47AB-B32D-CAAB03D645A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Some Guiding Princip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6840" y="1197000"/>
            <a:ext cx="83818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 description is in XML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ry to avoid becoming too complex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echanism for referencing other definitions requir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Rely on standard XML semantic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scription should be a valid XML documen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 not introduce additional semantic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(e.g. &lt;import-device id=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"…"/&gt;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Use of standard XML tools (parser, XSLT) should be possibl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Identify unit of re-use and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FB7D8A-F359-47E9-A483-EBC3B1DB1B2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C40C68-2730-4A4D-AF6E-5F753DD344B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olded Corner 6"/>
          <p:cNvSpPr/>
          <p:nvPr/>
        </p:nvSpPr>
        <p:spPr>
          <a:xfrm rot="20923800">
            <a:off x="6581880" y="540936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Not addressed: Standard dictionary for terms such as power, light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Namespace Declara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880" y="4191120"/>
            <a:ext cx="8382240" cy="12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 XM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Using some standard XML elemen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eeded for impor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BC7084-E84D-4D30-91F8-92999E5B409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A6B3E6-97E5-4B85-9C35-3F824AB2608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9"/>
          <p:cNvGrpSpPr/>
          <p:nvPr/>
        </p:nvGrpSpPr>
        <p:grpSpPr>
          <a:xfrm>
            <a:off x="457200" y="1752480"/>
            <a:ext cx="8272440" cy="1546560"/>
            <a:chOff x="457200" y="1752480"/>
            <a:chExt cx="8272440" cy="1546560"/>
          </a:xfrm>
        </p:grpSpPr>
        <p:sp>
          <p:nvSpPr>
            <p:cNvPr id="338" name="TextBox 5"/>
            <p:cNvSpPr/>
            <p:nvPr/>
          </p:nvSpPr>
          <p:spPr>
            <a:xfrm>
              <a:off x="457200" y="2017080"/>
              <a:ext cx="8272440" cy="1281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chema targetNamespace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:xs="http://www.w3.org/2001/XMLSchema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lementFormDefault="qualified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import namespace="http://www.w3.org/XML/1998/namespace"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schemaLocation="http://www.w3.org/2001/03/xml.xsd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ound Same Side Corner Rectangle 8"/>
            <p:cNvSpPr/>
            <p:nvPr/>
          </p:nvSpPr>
          <p:spPr>
            <a:xfrm>
              <a:off x="518760" y="175248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Import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0880" y="45716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chema provides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Imports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ag for importing one or more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Domain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ed Domain is part of document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not merely a referenc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BD5F79-7B47-494F-86D8-2667E3ED75D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E2C31A-4AAD-4777-95D3-3F5C5D1E790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9"/>
          <p:cNvGrpSpPr/>
          <p:nvPr/>
        </p:nvGrpSpPr>
        <p:grpSpPr>
          <a:xfrm>
            <a:off x="457200" y="1738440"/>
            <a:ext cx="8272440" cy="2734560"/>
            <a:chOff x="457200" y="1738440"/>
            <a:chExt cx="8272440" cy="2734560"/>
          </a:xfrm>
        </p:grpSpPr>
        <p:sp>
          <p:nvSpPr>
            <p:cNvPr id="345" name="TextBox 5"/>
            <p:cNvSpPr/>
            <p:nvPr/>
          </p:nvSpPr>
          <p:spPr>
            <a:xfrm>
              <a:off x="457200" y="2003040"/>
              <a:ext cx="8272440" cy="2469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group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ref="Imports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group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maxOccurs="unbounded" ref="Domai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Ideally the descriptions build on standard 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6813E1-6C6A-430F-88B7-7D75DC2FC24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CA6B9D-A271-46CC-BBB3-B0E0B66DEC0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Group 9"/>
          <p:cNvGrpSpPr/>
          <p:nvPr/>
        </p:nvGrpSpPr>
        <p:grpSpPr>
          <a:xfrm>
            <a:off x="457200" y="1738440"/>
            <a:ext cx="5029200" cy="4357440"/>
            <a:chOff x="457200" y="1738440"/>
            <a:chExt cx="5029200" cy="4357440"/>
          </a:xfrm>
        </p:grpSpPr>
        <p:pic>
          <p:nvPicPr>
            <p:cNvPr id="352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41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Multiple device descriptions are collected in a </a:t>
            </a:r>
            <a:r>
              <a:rPr b="0" i="1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has a uniqu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d and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tainin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5580000" y="4952880"/>
            <a:ext cx="30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xml:base tag needed for compatibility with xinclu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omain Declar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0880" y="3733560"/>
            <a:ext cx="838224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efault namespace is bound to the HGI-DA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omain defines a unique i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are realised using standard XML includ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amespace for XML Includes must also be declared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Domain documents can be included in the Imports sectio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rn standard XML tools are </a:t>
            </a:r>
            <a:r>
              <a:rPr b="0" i="1" lang="de-DE" sz="2000" spc="-1" strike="noStrike">
                <a:solidFill>
                  <a:srgbClr val="04617b"/>
                </a:solidFill>
                <a:latin typeface="Calibri"/>
              </a:rPr>
              <a:t>xinclude aware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87185B-0F7E-4D93-94DF-5F74C9DCC12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9374D4-7B9C-434E-B1F5-8D0463EE98B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Group 9"/>
          <p:cNvGrpSpPr/>
          <p:nvPr/>
        </p:nvGrpSpPr>
        <p:grpSpPr>
          <a:xfrm>
            <a:off x="457200" y="1738440"/>
            <a:ext cx="8272440" cy="1942560"/>
            <a:chOff x="457200" y="1738440"/>
            <a:chExt cx="8272440" cy="1942560"/>
          </a:xfrm>
        </p:grpSpPr>
        <p:sp>
          <p:nvSpPr>
            <p:cNvPr id="362" name="TextBox 5"/>
            <p:cNvSpPr/>
            <p:nvPr/>
          </p:nvSpPr>
          <p:spPr>
            <a:xfrm>
              <a:off x="457200" y="2003040"/>
              <a:ext cx="8272440" cy="167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:xi="http://www.w3.org/2001/XInclude"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d="com.telekom”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href=”http://hgi.org/dal-core.xml" parse="xml" 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..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Descriptions are XML Domain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cument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919A59-685B-4547-833A-29B970A8189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B7A0F6-B578-49BA-811D-B29248D5128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Group 9"/>
          <p:cNvGrpSpPr/>
          <p:nvPr/>
        </p:nvGrpSpPr>
        <p:grpSpPr>
          <a:xfrm>
            <a:off x="457200" y="1738440"/>
            <a:ext cx="5029200" cy="3957480"/>
            <a:chOff x="457200" y="1738440"/>
            <a:chExt cx="5029200" cy="3957480"/>
          </a:xfrm>
        </p:grpSpPr>
        <p:pic>
          <p:nvPicPr>
            <p:cNvPr id="369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7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Small HTML-style tag-set for documenting the defi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579640" y="1981080"/>
            <a:ext cx="3048120" cy="3105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 paragraph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d imag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cText gro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mark-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emphasis etc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f there is only on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aragraph the ta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be omitt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1T09:54:16Z</dcterms:created>
  <dc:creator>cb, hwb</dc:creator>
  <dc:description/>
  <dc:language>en-US</dc:language>
  <cp:lastModifiedBy>ANDREAS SAYEGH</cp:lastModifiedBy>
  <cp:lastPrinted>2000-03-02T16:25:29Z</cp:lastPrinted>
  <dcterms:modified xsi:type="dcterms:W3CDTF">2013-12-11T10:59:24Z</dcterms:modified>
  <cp:revision>394</cp:revision>
  <dc:subject/>
  <dc:title>Board Strategy Meeting HGI - SWEX</dc:title>
</cp:coreProperties>
</file>