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83400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E3DA4-B416-4861-B0DC-299AF5872F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3514B-6B14-447B-AC5D-9AE9EBADD3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7AA6E-8502-4922-8A0F-4DBDC82D53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ABAFE-0F95-4C82-8340-2E50B2A5BA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B423C-6A73-4686-9F42-841E7A141A5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D6A92-F68D-422F-9420-BF3EB5F3890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5F6C9-DDB9-4DF0-B800-A41B8EA12C5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421CF-AD77-4391-92F7-BCBDC28CE1C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A8A29-1560-4A18-8D54-AC271E0B201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25477-7DE5-47E1-957D-5C20FC317E1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B9160-87D2-4D2E-BF65-C54DD64E34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662C8-C408-469B-9806-E047057FEC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B7763-D517-47A2-B84C-BCA1467A66C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D0775-95D6-45E3-A21A-ECDFB4A6CCD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64E5C-AD40-4B06-98C0-15FFD1F46C2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F8BFE-A7E9-4772-BE94-C7D4BB0BC75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FBCA5-D9DA-4A38-9849-EEE72728581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06BF-B8B9-4690-B322-E039E2519F9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A3E8-3104-41BC-8419-46D4C8D4289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FD7F-404B-49A0-BA6D-C649EC1DEC7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6510-5DE0-443A-BA77-4E530EAA519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4B37-65E0-42B7-A57B-6D8A9421B8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FE874-8555-4E77-8D35-3DBE7BC2CD5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E965-80C6-4A8E-BCAC-5C6D8592876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AF9E-D05C-4982-9713-A362806BE3A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E8D6-5EBE-4C54-BFF4-5C0A7E6B365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4335-67AD-463B-AD92-B58ED1FEFBC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816E-BAE2-4451-BB21-BD29371B899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56BE-F3BB-43C7-8A01-46571802DFD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6E7C-63A5-45CB-BA8B-5BA174219A2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328551-CB9B-48CF-9506-3DD20E6AA41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857940-16F2-4EBB-9017-87432FD4901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093528-A607-4991-8283-F73FA1B163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73E9D-57AE-4ABC-984E-180034DE9EB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24B5A7-F3EA-4898-8233-E95B58E6838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D08F86-636D-429C-98BF-EA739D5D857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5BAFCF-017F-4F21-A0AE-4765AA8D807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0446F9-4298-4D75-9E8B-B3FAAFF3D4A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0B8F3E-0FD9-4B49-9568-EC2C20214A5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E2C202-DD4B-482D-A978-0D9E4700606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D5A886-E684-46CE-AC4B-73A4032D1D7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68FAC0-520E-416A-9BD5-C8BECC0B094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2FBC2A-B799-4480-A97D-333767B0F52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60B9E5-46AE-405D-8B82-42B21C1454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625B0-7AB9-4370-8AE1-2E9419717B2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D27390-0072-40BB-B05B-BF6DDE01CCF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679CB9-7BFA-4440-A7A6-626631D16CB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A7A6EE-A1BF-4DD4-B770-BB0C41EB818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717194-9AA6-4B63-B3F5-3D20BAC93CA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0D133B-F09F-4602-AF3B-D686424795D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18B5DA-A631-44E6-AC3A-68FE5F1424C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1C626E-16A6-41EF-89BC-6932EFBE38C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C0D495-079F-4137-A679-00400325A62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73C354-825B-479D-9F40-658FC5D11BF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F734E8-F131-48CD-B61C-710624AB41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5A664-308F-4987-8ECA-8D601D76FFA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569A0A-DD3F-4083-AA64-3927FEB3566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6BEF6-52AF-4772-83AF-6F5A74B87D8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C54F5-DE41-4235-86B6-F94319B8EDA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D15F5-E5DB-4EA4-8A3A-10877CF965E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57775-4B69-4679-8EBD-4AA1F67FBDF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5966C-0B20-4F76-9EB7-35EFDE1C88F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72A33-E314-4A79-9BB7-CA1A819F47E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7AC95-36F3-4974-9A67-66174495349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13939-A28E-4A30-A0E2-74D8BB185D5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D4F47-304F-4CC6-9283-34108EF49A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0D461-19F0-46C6-990B-5BB01612249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C83C0-1891-4F90-8624-2EA0ED8A7A5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50774-375F-4349-9926-4853C8B7DE4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25BD7-56B6-4CCE-9018-AC21FE1891F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CBDE39-ACC3-4B49-8759-7C739C96FA5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4A199F-8FD9-4722-9747-B84C2EB8299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FC97E7-FC33-4EBD-959D-2DB615574AD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FCD25B-556D-46D1-B946-B485846977F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7166D3-ABF0-4041-B8B0-29182E0BB85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AEB09F-A598-46A7-B5F8-9CDF397CD24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AF4755-27A3-45AA-8CBC-5EE1ECE57D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5ED5B-5FA3-42A1-B2A5-3AE84F60045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075C72-1250-41BA-9C9E-5D26081DAD7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77121A-E3FF-4183-BF92-A2D62483824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88F4E3-9D9E-4A2F-A05D-0551B4B489A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95959E-95A3-47B5-BB01-148380E252A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33CFA1-1182-4AE4-A50D-108B7705DA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C2B82-D56A-48A2-8E7E-6BF90B142D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81C45B4-6644-4ACB-B419-E189CC8B2AFF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8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50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0" y="4280040"/>
            <a:ext cx="9144000" cy="256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5"/>
          <a:srcRect l="0" t="0" r="20736" b="-9021"/>
          <a:stretch/>
        </p:blipFill>
        <p:spPr>
          <a:xfrm>
            <a:off x="108000" y="6308640"/>
            <a:ext cx="887400" cy="459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FDC7BD7-946E-45D6-975C-66D1E721D370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9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39AF996-03B4-4534-897A-A308575BC0DE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4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EBF1013-64E9-43D4-8A48-E45A875D0BC4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8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5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BF41BB3-A983-461B-83A0-1A3E8C0730CA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3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6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D81C2FB-E02B-4793-B1B1-61391C4F07FD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7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7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06686E7-BA37-4CB0-B7AE-230DC047A6B5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CA" sz="4000" spc="-1" strike="noStrike">
                <a:solidFill>
                  <a:srgbClr val="f2f2f2"/>
                </a:solidFill>
                <a:latin typeface="Calibri"/>
              </a:rPr>
              <a:t>DAL-XSD: XML schema proposal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68360" y="907920"/>
            <a:ext cx="8128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ate: 2013-12-11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MS#: 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Author: Simon Merrall, Andreas Sayegh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Company: Deutsche Telekom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working group: SHTF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document: GWD04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Slide Number Placeholder 6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684E81-8FE3-4E12-8EF4-3A23A8A85C75}" type="slidenum"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F78C4D-6351-499A-A976-A7D5FF62783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B8793C-F5DE-432C-B619-334B4820903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9"/>
          <p:cNvGrpSpPr/>
          <p:nvPr/>
        </p:nvGrpSpPr>
        <p:grpSpPr>
          <a:xfrm>
            <a:off x="457200" y="1738440"/>
            <a:ext cx="5029200" cy="3757320"/>
            <a:chOff x="457200" y="1738440"/>
            <a:chExt cx="5029200" cy="3757320"/>
          </a:xfrm>
        </p:grpSpPr>
        <p:pic>
          <p:nvPicPr>
            <p:cNvPr id="377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5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Reusable elements are declared in the Modules 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579640" y="1981080"/>
            <a:ext cx="31244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Name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unique in th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ction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Event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nother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 referenced by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id (must b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ncluded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nam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Folded Corner 13"/>
          <p:cNvSpPr/>
          <p:nvPr/>
        </p:nvSpPr>
        <p:spPr>
          <a:xfrm rot="1017600">
            <a:off x="3529800" y="5374080"/>
            <a:ext cx="1981440" cy="94824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4380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Do not use globally unique identifiers for module classes – Domain should act as a scop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Module Clas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69E503-C333-4246-BC50-8967E9C72BF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095688-4AC3-4F81-A084-72C3A49C7CF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386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Class name="BooleanState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…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get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etTarget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rg name="value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Desired value of the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/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Arg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Clas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BooleanState for modelling underlying binary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579640" y="1980720"/>
            <a:ext cx="30481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operation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reading and 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etting the 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Devic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EE63C8-6999-4478-9FC0-5627A15C655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EA76B4-CC89-4D40-A09B-6F5B8884BA3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Group 9"/>
          <p:cNvGrpSpPr/>
          <p:nvPr/>
        </p:nvGrpSpPr>
        <p:grpSpPr>
          <a:xfrm>
            <a:off x="457200" y="1738440"/>
            <a:ext cx="5029200" cy="4557600"/>
            <a:chOff x="457200" y="1738440"/>
            <a:chExt cx="5029200" cy="4557600"/>
          </a:xfrm>
        </p:grpSpPr>
        <p:pic>
          <p:nvPicPr>
            <p:cNvPr id="394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480"/>
              <a:ext cx="5029200" cy="43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Now have all the elements to define a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579640" y="1980720"/>
            <a:ext cx="312444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ome meta-info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Vendor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l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etc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Contains Modul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ot ModuleClass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evices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07396D-C85C-4716-9CEB-4B7643F5B64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23B66E-7440-4529-BF1F-36C04C0D8EB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9"/>
          <p:cNvGrpSpPr/>
          <p:nvPr/>
        </p:nvGrpSpPr>
        <p:grpSpPr>
          <a:xfrm>
            <a:off x="457200" y="1738440"/>
            <a:ext cx="5029200" cy="2140560"/>
            <a:chOff x="457200" y="1738440"/>
            <a:chExt cx="5029200" cy="2140560"/>
          </a:xfrm>
        </p:grpSpPr>
        <p:sp>
          <p:nvSpPr>
            <p:cNvPr id="402" name="TextBox 5"/>
            <p:cNvSpPr/>
            <p:nvPr/>
          </p:nvSpPr>
          <p:spPr>
            <a:xfrm>
              <a:off x="457200" y="2003040"/>
              <a:ext cx="5029200" cy="1875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maxOccurs="unbounded" ref="Module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" type="ModuleDe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Modules essentially the same a Module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579640" y="1980720"/>
            <a:ext cx="3124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not be extend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Content Placeholder 2"/>
          <p:cNvSpPr/>
          <p:nvPr/>
        </p:nvSpPr>
        <p:spPr>
          <a:xfrm>
            <a:off x="380880" y="3962520"/>
            <a:ext cx="838224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The ModuleClass is the unit of re-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Hence the basis of abst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Device Modules can extend standard ModuleCl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Classes can be imported from other dom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s can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6DB7E2-11CE-47E0-B4A1-2CE3FC72E91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60EE5A-8DDD-41F2-A91E-FD7E82D06C6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57200" y="1738440"/>
            <a:ext cx="5029200" cy="2932560"/>
            <a:chOff x="457200" y="1738440"/>
            <a:chExt cx="5029200" cy="2932560"/>
          </a:xfrm>
        </p:grpSpPr>
        <p:sp>
          <p:nvSpPr>
            <p:cNvPr id="411" name="TextBox 5"/>
            <p:cNvSpPr/>
            <p:nvPr/>
          </p:nvSpPr>
          <p:spPr>
            <a:xfrm>
              <a:off x="457200" y="2003040"/>
              <a:ext cx="5029200" cy="266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roprietary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f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tate" type="string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extends domain="hgi.dal.cor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class="BooleanState"/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Power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–</a:t>
            </a: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 candidate for Boolean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Vendor can define „inline“ proprietary modul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impler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reduce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 effor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ut little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5" name="Content Placeholder 2" descr=""/>
          <p:cNvPicPr/>
          <p:nvPr/>
        </p:nvPicPr>
        <p:blipFill>
          <a:blip r:embed="rId2"/>
          <a:stretch/>
        </p:blipFill>
        <p:spPr>
          <a:xfrm>
            <a:off x="378000" y="4748040"/>
            <a:ext cx="8388000" cy="1231920"/>
          </a:xfrm>
          <a:prstGeom prst="rect">
            <a:avLst/>
          </a:prstGeom>
          <a:ln w="0">
            <a:noFill/>
          </a:ln>
        </p:spPr>
      </p:pic>
      <p:sp>
        <p:nvSpPr>
          <p:cNvPr id="416" name="Folded Corner 11"/>
          <p:cNvSpPr/>
          <p:nvPr/>
        </p:nvSpPr>
        <p:spPr>
          <a:xfrm rot="20923800">
            <a:off x="6603840" y="551952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Only need hgi-core domain to use power modu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02E1DB-40DF-4E8B-97E7-8F416E67FD7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0C4D65-046F-4631-92D8-0E62368AAE1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421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="http://hgi.org/xml/dal/1.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xmlns:xi="http://www.w3.org/2001/XInclud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id="com.telekom"&gt; 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parse="xml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href="http://hgi.org/dal-core.xml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 id="switch.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Name&gt;PowerSwitch&lt;/Nam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Vendor&gt;Telekom Laboratories&lt;/Vendor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e previous slid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omai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A device with a power switch defined by DTAG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5579640" y="1981080"/>
            <a:ext cx="3048120" cy="3183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tails of device discovery to be determined, but device can be used by applications understanding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ower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oolean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Licensing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1196640"/>
            <a:ext cx="8381880" cy="31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is a contribution to GWD042, which is aimed to be published by HGI under royalty free license conditions (e. g. Apache License)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author(s) hereby confirm their awareness that this contribution may become a part of an HGI publication under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Warning: Any further work on this contribution will also become part of a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9F7E07-9FB8-4C9E-BB38-E71A416F5D4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82A186-5212-4451-84B0-5C08E03BCD3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Purpose &amp; Ac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196640"/>
            <a:ext cx="838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contribution proposes a draft for an XML schema that describes device type capabiliti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schema encourages modular approach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We‘d like the HGI adopts the schema as a starting point and starts to work on its finaliza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E7DE35-DADC-442C-8B2A-EC54968AB0F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56F1FB-24CD-497C-80F5-B742D8DBE49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Some Guiding Princip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6840" y="1197000"/>
            <a:ext cx="83818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 description is in XML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ry to avoid becoming too complex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echanism for referencing other definitions requir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Rely on standard XML semantic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scription should be a valid XML documen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 not introduce additional semantic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(e.g. &lt;import-device id=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"…"/&gt;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Use of standard XML tools (parser, XSLT) should be possibl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Identify unit of re-use and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94AFC9-35BA-4C91-8915-CA3221AAC20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7E7C54-FEF9-47E0-8777-50DDDB69A35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olded Corner 6"/>
          <p:cNvSpPr/>
          <p:nvPr/>
        </p:nvSpPr>
        <p:spPr>
          <a:xfrm rot="20923800">
            <a:off x="6581880" y="540936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Not addressed: Standard dictionary for terms such as power, light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Namespace Declara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880" y="4191120"/>
            <a:ext cx="8382240" cy="12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 XM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Using some standard XML elemen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eeded for impor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8C4F86-483B-466D-B559-7DC3AE23656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5E6F3A-450F-492B-A528-62D070D0F3D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9"/>
          <p:cNvGrpSpPr/>
          <p:nvPr/>
        </p:nvGrpSpPr>
        <p:grpSpPr>
          <a:xfrm>
            <a:off x="457200" y="1752480"/>
            <a:ext cx="8272440" cy="1546560"/>
            <a:chOff x="457200" y="1752480"/>
            <a:chExt cx="8272440" cy="1546560"/>
          </a:xfrm>
        </p:grpSpPr>
        <p:sp>
          <p:nvSpPr>
            <p:cNvPr id="338" name="TextBox 5"/>
            <p:cNvSpPr/>
            <p:nvPr/>
          </p:nvSpPr>
          <p:spPr>
            <a:xfrm>
              <a:off x="457200" y="2017080"/>
              <a:ext cx="8272440" cy="1281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chema targetNamespace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:xs="http://www.w3.org/2001/XMLSchema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lementFormDefault="qualified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import namespace="http://www.w3.org/XML/1998/namespace"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schemaLocation="http://www.w3.org/2001/03/xml.xsd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ound Same Side Corner Rectangle 8"/>
            <p:cNvSpPr/>
            <p:nvPr/>
          </p:nvSpPr>
          <p:spPr>
            <a:xfrm>
              <a:off x="518760" y="175248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Import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0880" y="45716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chema provides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Imports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ag for importing one or more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Domain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ed Domain is part of document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not merely a referenc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F91823-5222-4F8A-871E-BCCEE569A70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9F5402-B73E-42C9-8777-6BCE681F155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9"/>
          <p:cNvGrpSpPr/>
          <p:nvPr/>
        </p:nvGrpSpPr>
        <p:grpSpPr>
          <a:xfrm>
            <a:off x="457200" y="1738440"/>
            <a:ext cx="8272440" cy="2734560"/>
            <a:chOff x="457200" y="1738440"/>
            <a:chExt cx="8272440" cy="2734560"/>
          </a:xfrm>
        </p:grpSpPr>
        <p:sp>
          <p:nvSpPr>
            <p:cNvPr id="345" name="TextBox 5"/>
            <p:cNvSpPr/>
            <p:nvPr/>
          </p:nvSpPr>
          <p:spPr>
            <a:xfrm>
              <a:off x="457200" y="2003040"/>
              <a:ext cx="8272440" cy="2469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group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ref="Imports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group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maxOccurs="unbounded" ref="Domai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Ideally the descriptions build on standard 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39BCFB-BB9A-4D89-BDB8-B5C1C2791E1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C7A179-39B4-49A7-B044-4A08F5872D7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Group 9"/>
          <p:cNvGrpSpPr/>
          <p:nvPr/>
        </p:nvGrpSpPr>
        <p:grpSpPr>
          <a:xfrm>
            <a:off x="457200" y="1738440"/>
            <a:ext cx="5029200" cy="4357440"/>
            <a:chOff x="457200" y="1738440"/>
            <a:chExt cx="5029200" cy="4357440"/>
          </a:xfrm>
        </p:grpSpPr>
        <p:pic>
          <p:nvPicPr>
            <p:cNvPr id="352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41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Multiple device descriptions are collected in a </a:t>
            </a:r>
            <a:r>
              <a:rPr b="0" i="1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has a uniqu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d and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tainin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5580000" y="4952880"/>
            <a:ext cx="30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xml:base tag needed for compatibility with xinclu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omain Declar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0880" y="3733560"/>
            <a:ext cx="838224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efault namespace is bound to the HGI-DA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omain defines a unique i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are realised using standard XML includ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amespace for XML Includes must also be declared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Domain documents can be included in the Imports sectio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rn standard XML tools are </a:t>
            </a:r>
            <a:r>
              <a:rPr b="0" i="1" lang="de-DE" sz="2000" spc="-1" strike="noStrike">
                <a:solidFill>
                  <a:srgbClr val="04617b"/>
                </a:solidFill>
                <a:latin typeface="Calibri"/>
              </a:rPr>
              <a:t>xinclude aware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33908B-0B29-4FD9-9FA4-8DDBD0BA560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5821D4-7C57-4E41-ADC0-F9B3844982C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Group 9"/>
          <p:cNvGrpSpPr/>
          <p:nvPr/>
        </p:nvGrpSpPr>
        <p:grpSpPr>
          <a:xfrm>
            <a:off x="457200" y="1738440"/>
            <a:ext cx="8272440" cy="1942560"/>
            <a:chOff x="457200" y="1738440"/>
            <a:chExt cx="8272440" cy="1942560"/>
          </a:xfrm>
        </p:grpSpPr>
        <p:sp>
          <p:nvSpPr>
            <p:cNvPr id="362" name="TextBox 5"/>
            <p:cNvSpPr/>
            <p:nvPr/>
          </p:nvSpPr>
          <p:spPr>
            <a:xfrm>
              <a:off x="457200" y="2003040"/>
              <a:ext cx="8272440" cy="167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:xi="http://www.w3.org/2001/XInclude"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d="com.telekom”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href=”http://hgi.org/dal-core.xml" parse="xml" 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..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Descriptions are XML Domain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cument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5D1843-76BF-4301-A9D1-1C98694B9CE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EB2DA5-E485-4D51-9756-1FAB5DA27C4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Group 9"/>
          <p:cNvGrpSpPr/>
          <p:nvPr/>
        </p:nvGrpSpPr>
        <p:grpSpPr>
          <a:xfrm>
            <a:off x="457200" y="1738440"/>
            <a:ext cx="5029200" cy="3957480"/>
            <a:chOff x="457200" y="1738440"/>
            <a:chExt cx="5029200" cy="3957480"/>
          </a:xfrm>
        </p:grpSpPr>
        <p:pic>
          <p:nvPicPr>
            <p:cNvPr id="369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7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Small HTML-style tag-set for documenting the defi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579640" y="1981080"/>
            <a:ext cx="3048120" cy="3105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 paragraph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d imag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cText gro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mark-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emphasis etc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f there is only on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aragraph the ta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be omitt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1T09:54:16Z</dcterms:created>
  <dc:creator>cb, hwb</dc:creator>
  <dc:description/>
  <dc:language>en-US</dc:language>
  <cp:lastModifiedBy>ANDREAS SAYEGH</cp:lastModifiedBy>
  <cp:lastPrinted>2000-03-02T16:25:29Z</cp:lastPrinted>
  <dcterms:modified xsi:type="dcterms:W3CDTF">2013-12-11T10:59:24Z</dcterms:modified>
  <cp:revision>394</cp:revision>
  <dc:subject/>
  <dc:title>Board Strategy Meeting HGI - SWEX</dc:title>
</cp:coreProperties>
</file>